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E8BB6-C8BD-4E99-B59B-B29BD070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DA08A-F602-415F-B096-C9146228F034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8C69C-29AB-4A3D-9797-40C47E27581C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0FC84-4B52-41EF-A59F-5CD8E15AC871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466E4-2CA4-47AB-AA5A-8953751CEB6C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97758-E11C-458F-8FE9-2F587BBA02E6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4816F-37CA-49ED-B443-C086F17E6AFF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9B552-A73C-42CC-974F-CC8059CA9DB0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A2B78-5ED8-4D30-A915-B4DB7EDDA834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Zástupný symbol pro číslo snímk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D8A03-1252-4AB2-A1C0-F93DE29048D3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20F-69C3-4EA5-80D3-EF8F0EA7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0A-34BB-45D6-B56A-1B64211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F8800-CA35-4D73-B495-07FA6934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D2E9F-75C5-4EB2-8BE5-C3B334B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76843-948D-41C2-9F03-DB9CADEC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6D9A1-55D7-46D3-B47C-DFC9D5F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44804-968C-42C4-8161-7041B68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94B9C-DD95-4EFD-894C-3B222AE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F4D71-19F6-4E7F-819A-A09F628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C6C3A-D685-4172-9C24-CB0A21F0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122C7-FBC2-47A5-B0BE-F9CDD857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31A64-4AD1-4D8B-B489-AD0CB4E4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BC6-F9AC-4733-B69B-FAB4F939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0CC4F-90D9-4185-B446-B394E528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B9A14-2531-438D-A2DA-2BEB662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7DBC2-4596-4373-B8C8-930CF7B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857A2-49F0-4EB6-A268-D59C3AC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CAA4C-591A-4FDE-81FF-2436B2E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7CF00-B1FE-45E4-944F-87EA2AFE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1E2AC-ED87-4F9B-8B5E-42C7A43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05F6C-20BA-4961-8A64-B38F11A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F1AF3-74C2-4C48-B234-9A993060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019BC-810E-4E8A-BD98-28102538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C7C-C56B-4A8D-98C8-8F22FD6C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BCEE7-1707-46C7-B3DB-FEEF7FC9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7C816-5A65-4606-B59D-B7BCD1E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D097-F9B5-4A39-BF6A-840D878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6F076-3030-4C05-9217-9D87200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B39A-3CE6-4A84-A361-3912D9D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9E899-4384-4A1E-B136-DA9A3FC0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0EFE-F9C5-4292-8CB5-25464F1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3D89C-D09A-4AF5-A500-08BF23C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2B6D5-5414-47EB-81C2-66EE192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11C0E-3978-4E8A-8279-BAEA2F6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0409-5517-4EEE-843D-D126CB71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AF2D-4F80-48BC-A77B-43A260C0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FB5F-B179-4D7B-91B7-5BCDC877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3578-80F2-4565-8B63-ECFC973F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5D902-A894-4A91-BF4A-8096982B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9BA6B-1213-4CD2-97F8-45A1C8B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3A35E-C840-4346-B267-CC90154A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EE425-0C0B-4DAB-8363-1567FEE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EB43A-8419-41DF-ACEA-BD0B0DB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2CD72-147C-4C5B-83B2-580D8E0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39022-111B-4B20-86C4-B375B1C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C6D1-6507-4310-ADC0-22588F4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E7715-4509-4A91-A6C8-6EA52218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A879-AB53-4A45-A27B-8032F98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8D703-52C1-48A2-BA68-7FAE71C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7F43B-25B7-4008-9759-660E284D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D17CF-9A43-424E-A0D1-A4B4518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BF165-DD86-4B00-B109-185E570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917A3-6C72-478B-80C3-CA8EFB2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E8D9B-EAF5-4439-A43C-54CA3737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4079-BBA2-4D41-BCCC-EAA779A9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F1EA7-6635-4C6D-B829-462FBD4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D0F9-F905-4744-839F-ACC08FA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D95DC-6E80-4148-A064-A2F0EA6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0A5DB-FF54-43BE-BA72-D40EE86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C1058-28BF-40F8-BDCF-4123B95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81DF6-B646-41C7-8637-2359C9B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C4EBE-7F85-4540-9F3A-6DE12281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DF102-20FB-47FE-8E44-604728C9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7FE78-3353-4670-B260-1CE45706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64EB1-6C98-4379-9D8F-971A24E9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3AEBF-088B-4C00-A4FF-792BDCE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622E8-6B1E-4C1D-8BE7-505CD231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A3DB-C346-4BA3-8021-F3347224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64E40-67E5-4469-90BB-74D53E4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18417-1749-45EC-B0DF-AA55C429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5B64D-B98D-4AC0-BD37-3D5B7F2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D30BA-D3B9-4EAA-884E-356FE16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E0D7E-5D03-4C80-9AFC-E5B533C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3C33A-7274-40BC-9836-BFFB913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59810-DD47-49D4-9FCA-430A67BA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6ECBD-F5A2-41C4-82BB-B0733426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A2F73-1422-4133-A138-DF4E659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AA723-5D45-497D-A57F-5E5FBE13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347A-3C68-4E4A-A288-34CF985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D396E-900C-4098-B3DF-BB85E9DE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6F43E-4087-46AF-840E-3A728D7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D5B3B-EE1C-4C6E-B1C4-E22CCCF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A78B9-F853-4E30-B66C-09529064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F0A62-A4F8-4432-91D9-203131E8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1D00A-F617-44AA-A7B6-6DE2931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D7568-401F-4473-9AEE-B53C369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39D1B-0BC0-4968-9636-DC16C06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073B5-FB46-48DD-A809-63B0C728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6BCEF-D472-4C19-9A53-FA8D5A1E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690-D953-4022-A414-195880C2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C48D6-23E3-4A55-9DAF-D1696FEA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A47F6-DEC3-4A39-9A88-B0DC5B25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491FE-FB75-487B-A87B-2C92159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C9E70-EE2F-4EAB-AD35-C5D16BB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09D1E-1ADC-4E7B-891F-A5B5224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04381-7371-41DC-840A-1CFA5358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2D5EA-001E-4A7F-B4F6-0ED6C2F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127E7-EBAB-48EB-95F8-00B9AA9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2CA98-8059-426A-9308-E5AA74B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55671-BE1E-4898-A6B9-D7E494C7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06F-49B2-46E9-B248-1A5F63C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532AB-D7A8-4185-8304-834DFA7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CAA84-894B-4367-B9B7-62BC2006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D0494-A594-464B-8498-BAC12759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02FE5-7E56-422E-A7F8-673A9023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EBCB4-F1D5-419C-8B84-81F1EF4C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DAD12-9A99-495B-941B-DA6659C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DBE48-64A5-4B6C-9C64-24E6C2E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82AB3-B1E5-4666-A1AE-DD2A165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F7774-93A0-4180-B94C-C26C8AC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86B36-1037-40FE-B78D-844D96F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1DC-1D64-4FF3-9402-E3E7753E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F045-D2C8-4223-AA65-49B0469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ECB41-A09B-430B-AC0F-54433F8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BE2E7-31E4-40E3-A84A-59E1568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BB8E8-ABEB-4F90-9664-44E9B7E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41556-852A-4D6A-B3EB-6C6C2FD6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2E8F8-0D30-415F-BFA3-F816ACB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279F7-F7F2-4886-A30C-89D9524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D0CE3-634A-4532-A4AF-BD691FC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BB770-75AD-4EEF-9C4A-4E2BD51C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91665-DE85-4A70-9753-7F4AC0F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FD49F-0242-4EA4-AF1D-73102FC8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FD1-5F42-4281-9B98-D131D24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B57DE-8C1D-4BE5-95E6-87101A7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A68DC-F763-4C80-8FB1-4E29E76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5E050-0303-43A6-BF4D-7A79BB0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E3E9CF-C2E0-464A-8E10-D298345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5580A-3C02-4554-A0A6-55B406B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AF842-F651-4A11-B76A-B0386B8A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D95D1-4BA4-4E40-970D-511AF629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D068-CB11-4C9D-926D-F21B495B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910-7C4F-413D-868D-A27EDBFC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B50A-67A1-43E1-B7FA-C997ABB9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6A6D-DACB-4406-9D48-CA14CFFB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CCFC-12EB-4CF3-82D5-E3D312E8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C981-E22E-4712-B103-C241683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0735-2C4F-4943-80A5-946902EA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8826-B1A3-4B90-B5A2-B9B1FE9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525-5714-4E30-B59C-572BCA41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49B3-8B3C-4688-B07C-2D6773B7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4FEE-219B-4A20-8F37-C50CAAB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BCBC-5B0C-44F0-8728-CED0E3E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99EF-983D-4865-BB09-5B8FDD9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EE14-02BF-4B74-9F1E-1C8316D8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70D9-B5BA-4333-A5F0-669578E0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4857-4899-4703-B6C1-90D5C3D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0C62-903B-42D1-94DD-3898E1CD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2563-9E0C-4228-8966-C02E243E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38F8-8AA4-4B6B-8ABE-71A23155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634-CC70-4B94-832F-4F1F341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A396-FA39-446D-A5F1-B3C0BFD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F7F1-50DC-4EE0-BB2E-D8B901D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8DC8-351A-4A6F-A3AA-D2ECC1F7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B012-8B0F-4E3F-9FDA-4C12802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28178-39A8-4328-94A8-5A97DFF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C427-35B7-4554-BDD7-EDA07AF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0228-772D-4ED2-A84B-4B9F7C3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8917-5487-4E23-95D5-7A798417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C0EE-967F-41B5-ABAB-89ADD138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8A32-BEC5-4F45-A85B-89C7A936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3EF-A855-4AF5-9ABB-191B33C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D8AE0-7AB1-4F20-833A-5669257D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4187-3C8E-46D1-9378-06D38C03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4681-92C2-44E2-9EF1-F3C2BE20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DF64-C987-425D-B0AB-80488A58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B025-D72E-4E01-8D73-4A9BD6E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71AF-7CB5-4ABB-9B09-4FC2A62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EB3A-42F0-4ED0-99E1-6E7E439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94E4-DA96-4A23-8E60-04D5D5F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6E1A-CDEC-458A-8568-DA9FFCB1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44B3-D798-41C6-AF2E-F6428069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DCE-18E0-42D1-B766-630A94E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F1C9-FF64-4C7A-91B0-3F79A02B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335E-283E-46CF-9962-4A7FE829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3EEB-6066-44C7-96BC-E5F646FB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7AD8-14D4-451A-A711-4E6C361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D97E-2099-4D60-B286-BF8EF16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61BEE-DF2A-468E-8840-E7A4C3F4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0706-4A8B-4A0C-8732-DCE1A39A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3ABD-D72B-457A-A1FD-6B320E3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1591-8778-4058-B94F-40304D1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5324-00B3-4917-8B7D-4E43BA98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235-E7E8-4088-9275-EF7D012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2C8F-52EE-4D4D-A2B1-0955093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23BC-4487-4410-8226-BB06744E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0EAE-0A5D-4C27-9C80-D63F7C85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EE9FD-B5FA-4E19-9D4F-4B228765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706D-71E4-4EAA-B0FF-9B0432D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1270-1038-464D-9BAF-59BEBC4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A5DF-95CA-475A-94BB-ADB18EB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72223-65DD-417F-8076-45B3765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6EAE1-9E2F-42FD-9676-B04D2AE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CFC5-D684-4C94-ADD7-D4F2360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BF3-B551-4C10-AB01-37B5ED3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C630-F467-44F4-9B5C-7BC0884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F629-01BB-4002-8398-9036330F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7228-A237-4318-936A-1902B90B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9A19-DDC7-493E-A568-570622A1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AB4A-6A80-41A6-BE45-1A673CE8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3CFDF-D92E-431A-B0B0-CDDCD7F9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602D7-B603-4B13-9A36-3A599E7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ABA4-A94E-42A3-9CBB-D4EBE44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1287-0894-4F30-8ACD-9768398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15571-6880-4B15-A5F0-010E2E3B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70F-7CA2-47DC-9919-80A08D7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9E22-6536-4F80-9F85-77484EA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02FCB-3847-4704-A184-707D4D3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5AEF-6BFB-4B12-9885-B1777D2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9C2E-3C19-40B8-A21D-7B2AA19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3E13E-43C2-461C-868E-B44F5D69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0C61-2329-4D43-B6C0-24955656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B645-6642-49DF-88F5-8A37C521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36478-66EB-4E29-80ED-F557FE76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FBF7D-99DF-471D-9883-54A5001F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6D5C4-6E94-4E32-BCA8-6DCBFBD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4604B-A52E-47A4-B12B-E70665BED7F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975D9-D6A1-44B3-9077-C8CF7175BCA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D927E-D724-43CD-A508-A707249386E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F7EF0-F3F6-49CF-8D4A-2131258F218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750FF-004E-4559-9578-C0F88B69DA8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6142D-10F6-489B-9333-2EFD33F0D0B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2942D-B12B-4E21-9DE2-C680EAC7455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8E12B-335B-4E94-96EC-D146359464B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A456C-7587-460F-A121-B02ACC13028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7C63C-096E-4CFE-9662-CCE4AF605F0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4F7E8-FC8C-4E2B-BB2F-71A9D3B5FF8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40CD5-F967-4528-8923-6E5726ACA0F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62451-B277-475F-97DD-43F5ABF3F02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087A7-93B7-4231-A8F5-6E305624600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2D460-3218-4EC7-954A-27BCB87E202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D08B8-C3C7-47AE-B6FA-849EC1ABB0C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FEB00-3FDC-4B33-B43B-996BBE913B6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C8150-54AA-48FE-84FD-E6A3271F853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0" y="2733840"/>
            <a:ext cx="65800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rebuchet MS"/>
              </a:rPr>
              <a:t>Klíčové aktivity projektu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7" name="Obrázek 9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114720" y="115920"/>
            <a:ext cx="2627280" cy="544320"/>
          </a:xfrm>
          <a:prstGeom prst="rect">
            <a:avLst/>
          </a:prstGeom>
          <a:ln w="0">
            <a:noFill/>
          </a:ln>
        </p:spPr>
      </p:pic>
      <p:pic>
        <p:nvPicPr>
          <p:cNvPr id="848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869160" y="2957400"/>
            <a:ext cx="904680" cy="10861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Informační portál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TextovéPole 2"/>
          <p:cNvSpPr/>
          <p:nvPr/>
        </p:nvSpPr>
        <p:spPr>
          <a:xfrm>
            <a:off x="108000" y="2205000"/>
            <a:ext cx="89280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složen z těchto částí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atabáze poskytovatelů sociálních služeb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Kontakt na zadavatele sociálních služeb s možností zaslání dotaz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c) Vyhledání sociální služb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d) Důležité odkaz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ystém bude fungovat přes internetové rozhraní a bude přístupný široké veřejnosti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Obrázek 2" descr=""/>
          <p:cNvPicPr/>
          <p:nvPr/>
        </p:nvPicPr>
        <p:blipFill>
          <a:blip r:embed="rId1"/>
          <a:stretch/>
        </p:blipFill>
        <p:spPr>
          <a:xfrm>
            <a:off x="8434440" y="1062000"/>
            <a:ext cx="674640" cy="684360"/>
          </a:xfrm>
          <a:prstGeom prst="rect">
            <a:avLst/>
          </a:prstGeom>
          <a:ln w="0">
            <a:noFill/>
          </a:ln>
        </p:spPr>
      </p:pic>
      <p:pic>
        <p:nvPicPr>
          <p:cNvPr id="869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2122560"/>
          </a:xfrm>
          <a:prstGeom prst="rect">
            <a:avLst/>
          </a:prstGeom>
          <a:ln w="0">
            <a:noFill/>
          </a:ln>
        </p:spPr>
      </p:pic>
      <p:pic>
        <p:nvPicPr>
          <p:cNvPr id="870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72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1046160"/>
            <a:ext cx="5824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5963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pracování základních dokumentů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20760" y="2349360"/>
            <a:ext cx="85024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Základní listina komunitního plánování sociálních služeb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Trebuchet MS"/>
              </a:rPr>
              <a:t>Jednací řád ŘS a jednací řád PS 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yhodnocení stávajícíh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533520" y="2336400"/>
            <a:ext cx="8286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Smyslem bude zjistit jeho aktuálnost a potřebnost sociálních služeb a souvisejících aktivit, které jsou v dokumentu uvedené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zmapováno, kolik z plánovaných aktivit bylo uskutečněno a s jakým úspěchem, případně zjištěno, proč k realizaci aktivity nedošlo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ýstupy této aktivity budou sloužit jako jeden z podkladů k vypracování nového SPRSS pro dané území ORP Šternberk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Analýza sociální situac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98900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4 dokumen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ociodemografická analýz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skytovatel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potřeb uživatelů sociálních služe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Analýza zdrojů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Veřejná setkání a vzdělávání účastníků procesu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TextovéPole 2"/>
          <p:cNvSpPr/>
          <p:nvPr/>
        </p:nvSpPr>
        <p:spPr>
          <a:xfrm>
            <a:off x="0" y="2133720"/>
            <a:ext cx="9036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3 veřejná setkán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íl: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) informovat o procesu KPSS širokou veřejnos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) sběr podnětů a připomíne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c) představení výstupů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rebuchet MS"/>
              </a:rPr>
              <a:t>Vzdělávání účastníků projektu v oblasti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4 vzdělávací semináře pro osoby zapojené do procesu aktualizace komunitního plán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Účastník semináře obdrží certifikát o absolvování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Řídící skupina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TextovéPole 2"/>
          <p:cNvSpPr/>
          <p:nvPr/>
        </p:nvSpPr>
        <p:spPr>
          <a:xfrm>
            <a:off x="0" y="2205000"/>
            <a:ext cx="90360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V řídící skupině bude zastoupená skupina uživatelů, poskytovatelů a zadavatelů sociálních služeb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Bude připomínkovat jednotlivé projektové výstupy a schvalovat jejich finální verz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a základě výstupů vyhodnocení stávajícího KPSS a z analýzy aktuální sociální situace stanoví hlavní témata, jimiž se bude plánovací proces zabývat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 projektu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TextovéPole 2"/>
          <p:cNvSpPr/>
          <p:nvPr/>
        </p:nvSpPr>
        <p:spPr>
          <a:xfrm>
            <a:off x="179280" y="2227320"/>
            <a:ext cx="9036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Pracovní skupiny zabývající se problematikou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Seniorů a osob se zdravotním postižení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Rodin, dětí a mládež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Etnických menšin a osob jiného sociokulturního prostřed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atalog poskytovatelů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TextovéPole 2"/>
          <p:cNvSpPr/>
          <p:nvPr/>
        </p:nvSpPr>
        <p:spPr>
          <a:xfrm>
            <a:off x="108000" y="2205000"/>
            <a:ext cx="8928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V katalogu budou kromě poskytovatelů sociálních služeb uvedené informace i o dalších organizacích působících v sociální oblasti a umožňujících sociální integraci cílovým skupinám projektu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Závěrečná část katalogu bude obsahovat kontaktní telefonní čísla, jako jsou tísňová volání, linky důvěry, krizové linky pro děti a mládež, apo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polečně s katalogem poskytovatelů bude vyroben stručný leták s názvem: Síť pomoci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43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pracování Střednědobého plánu rozvoje sociálních služeb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TextovéPole 2"/>
          <p:cNvSpPr/>
          <p:nvPr/>
        </p:nvSpPr>
        <p:spPr>
          <a:xfrm>
            <a:off x="114480" y="1916280"/>
            <a:ext cx="89154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Tento dokument bude rozdělen na tři části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Analytická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výstupy aktivity Analýza sociální situac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trategická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rovnání stávajících sociálních služeb s jejich uživatelskou potřebností, SWOT analýzu, vizi rozvoje sociálních služeb, cíle pro jednotlivé skupiny uživatelů, opatření a aktivity pro naplnění cílů a finanční prostředky na jejich realizaci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Trebuchet MS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mplementační čás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rebuchet MS"/>
              </a:rPr>
              <a:t>postup a navrhované kroky k zajištění implementace komunitního plánu včetně popisu nástrojů ke kontrole a vyhodnocování tohoto dokumen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Současně bude vypracován tzv. realizační plán na období jednoho rok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3:26:39Z</dcterms:modified>
  <cp:revision>30</cp:revision>
  <dc:subject/>
  <dc:title>Jednací řád</dc:title>
</cp:coreProperties>
</file>