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5BEE4-C33A-4D9F-96A8-D42A4358D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87DD7-0766-4751-9A43-663DD5CF7000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3D895-238A-4B08-ABAD-DD5B7DD08776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56826-D37D-4F8E-921C-52DE084DF1CD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6FBA4-26E0-43E3-AE1B-CB877A650A40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21251-66E2-418E-AA63-7CCFB5F99C9A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C5628-13B3-4C93-ABCD-24AFAB60BB25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18D96-3A9C-44F0-8B3C-950D00FCB3FA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4F346-F1C9-49A3-B0CB-8182648DC71A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DBA4E-3F4A-44EF-B7BD-F030F8B0DD0F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257-A887-4C0A-A30E-8E657CA9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634-6B46-416E-B757-2A183C59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C3382-3293-4CE4-8EA9-51731F5D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1C1E6-2DD6-4A80-9BEE-FAAF8ED7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DEA47-E5AC-4480-83F6-5E3D47CE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4F640-3D38-4933-A5A3-B3814DF2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3ED2-CB46-4FC0-AF3A-EC7C1FD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61909-3CF7-4C93-9634-D760726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E4130-78CB-48E5-9A7C-F502C3E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85010-5BCA-444B-9AFE-82A919B6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F315E-68F4-467D-A59C-0AFDE22A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1C85C-1F96-4BCD-B7B4-E6BD23B0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B0B-6ED8-4720-926A-65C40F2B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76369-638A-4360-AB97-E95F265B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F0E09-4E00-4F4F-AD9D-0E640247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BE888-9357-48A1-A1C6-AC3DEAEB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8B65E-5A3F-4347-B406-890CF311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3146A-716A-482D-BB55-2079C256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7BFA7-A754-4597-B11D-6D6381A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45D07-3860-478A-A28F-05C9057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42B47-65CC-490F-8681-C1BA63F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84471-2C64-460B-AFDD-B1A807AB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3AC7F-4B8B-43DD-BDAB-2DC5A027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943-1703-4666-994B-8B2C5AAC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AF789-E958-4782-BF69-B4DCE3F6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5B500-ADB9-4BDF-8FEC-F23157C8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D51E4-A569-470A-9F52-80F564AE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A2E8-9805-4BFF-B734-FF375D20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87A37-FE73-4ACC-82DB-862C618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4FAB2-C0BD-4430-91FB-FC9A686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E4B23-F369-4422-B634-775B378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0C9F4-3924-40A3-AD02-D1F6184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22A2F-97B9-4174-A894-3870CD1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1D903-1113-48A5-BA0D-16773C1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5B2-F34B-467C-AEAF-026A38DF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A1091-DEFA-4482-BCA6-7D72233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2A2FE-1188-45ED-8F6C-57F04C57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97DC6-C5A9-43AE-B56D-F192C850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DD8D1-0BD3-4E56-854D-2DC79E1B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CBB10-9B4D-486A-81E0-9CD5BEC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FCDF0-B089-4E6D-ACB2-67B0BDAA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89FA1-4924-4F9B-B800-7ADFC0F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FA0D1-59B9-4E6B-8750-D2AA4D92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39B85-1720-49D4-A071-0819501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23B32-61E3-44B9-B033-EB9621EF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05A0-C31F-4B32-BF7A-59A1039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770F3-22E2-46BF-92CF-FB5C1B6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BF6BF-11D6-4130-875D-26BF83CE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E073D-6847-46DC-B6A0-F3F1FC72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0930A-2526-44E4-B38D-9F8300CE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B0C5F-4675-4B3A-A04E-239BA0B8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5683B-527C-4280-A4D3-1A94E715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01A79-9104-4589-AD55-D89C4EC7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5E7C2-3584-4248-A5CA-854E0F11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6FD56-92F5-4133-86B9-ED845113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C88AC-53AC-4C78-8E90-26747E39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DC4F-02DD-4898-A399-22504C8B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05827-2300-44A6-ABD8-A7DC1B1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FDCE3-A45B-430A-A465-E152ACF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CBC2D-EC02-4268-9CF9-FAC2A255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A158D-FECD-48AB-BA50-CF17CD1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A4B95-7D17-4E7D-BEE5-2336CD38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1DBC9-EB78-4C51-82C6-AFF5EA62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CD635-1A8C-4EA4-AE70-91C7E659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128A1-32D4-40CD-A249-9291FB6A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97844-F6C6-4FD9-8B3C-1FF6D537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E2DD4-34C9-4055-B2CB-1C80017B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EF7A-11FA-4D5F-B15D-22DEE339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78699-2018-4893-B221-533682D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62392-FF22-4824-A6C2-8187F4FB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E015A-E2BD-4864-ADD9-D7AF7B6C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0A341-EC01-4465-9FB9-12CFEC4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172CB-7A85-4B43-B11D-C38682F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72C18-4FE5-4880-9F84-D353480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E9D28-5A99-4618-823E-7572CD7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3A177-DAF8-4B48-96E9-02913386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DEEEC-9211-446A-908B-75B423AB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0F059-600D-4D06-B729-B2C99354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D0A1-6FFB-414B-A417-6846D3C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98E65-00AB-4795-822D-E14C740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E7C64-E679-4171-87B3-82E2860E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DFC5A-C5AF-4D6E-A853-75DB1BEE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7A291-ED3F-41BE-8E80-6742F109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3138F-FB0B-4940-A3D0-D1630676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9FE9E-1F9E-44D1-A173-6688772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44063-0FAA-41BD-90C5-C87B10F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EC88B-F897-4DDB-93EF-1F1985F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58549-A414-414C-8FE4-C4537500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D2B10-B832-4E87-9503-71DAA81A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7529-55B7-4840-89DF-3501E71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131A6-5F17-4FCF-8ABA-79804988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62A71-C135-47C9-AE41-BC425810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23931-38B4-4A82-8BCB-5DE98E5A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B5C2C-133E-4F06-8D3D-F7DD84D1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F844D-FEA5-4B69-AED5-0CEC4C51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5F778-4DFC-47AB-B6CC-BD8EBE33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CBF72-F93B-4CA9-8542-DD9BD6B9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93361-BC9F-416C-8E1F-F8DF352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7B82D-5ECC-4B1F-BE4C-70233E3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C0E2F-0A86-4253-817A-5A6B4068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AB2C-A892-4E50-820F-88B4C68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7AEC8-60E4-4052-BA9B-0385009B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8166C-7AEE-41A9-AE29-04EDE44B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A1ADD2-892A-48E8-AAAD-B79AB7DA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9C7765-96D2-4BB2-89D1-95FA5A37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F830D-FE6A-4A88-B231-5D8748C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118E6-0352-48AA-8255-658140B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8F2EB-B6EE-4AB4-866D-52C7C39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25F56-56D1-4CAB-BE32-750D14DF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6E516-604C-4511-A9D7-8CC94A44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F01EF-2154-493D-A236-7F6AE191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DC1-6EBA-4E24-BA75-1C618E86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33FC-7398-4202-A8A3-9662614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0ED05-3903-4BF3-8421-9FB7DE5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B0FD4-5B74-4F42-999C-AA4F6F8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6A07A-A5CB-4E6D-9468-D803612A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97B52-17E2-44D3-BCA6-CECD076E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A1627-3B4C-4CF3-9330-2F421192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FE8A0-1406-489C-9D81-041A59F3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857CA-CC72-4C1F-AAFA-3B2DBAB1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2187C-8CBC-4250-B520-9865BDF3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90DC5-A18A-48FF-A9F1-4B58020F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14688-4118-428C-8A58-8B1909A2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78C3-D762-4F15-AA4A-804F173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9F98C-7384-48FB-BB4C-0B3267F2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E4C3B-C3CD-4DD4-98BC-27B2C9D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1A49C-787D-4391-9DDB-4F8E420B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3D818C-00EC-48ED-ADF9-5B43BF5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8E2C8-165A-471D-86E0-98B999CC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9F0B0-88AB-4373-AD61-39B01C87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D065A-9D0F-4FFD-BC8E-E3C36B81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0CD3-835A-488D-8FB6-71E88EC4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433-0494-4809-BBE3-E2E93976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B68E-19E3-4A97-A8E9-A99BBC30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B50B-15F5-4AE8-87B0-1C74B7AD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3EE2-39F4-4132-85FC-981BCB6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5965-C5DA-4B5A-91B1-BC2DFB17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A7AA-E12D-43AD-A0ED-319E595B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2D96-F628-482A-B72C-C21323B1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D18-ABEB-45E1-B922-7A379358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D507-844A-4513-AB17-14ADF3C9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1A6B-4676-4EAA-A867-FAAC9A94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CB83-7C2B-4901-8C62-02DD3DB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5B64-3BCF-45AE-8F81-427E96A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E557-29F9-46DB-939D-368DBCB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2065-29EF-4FAD-AFBC-187149F1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8F26-D6D2-44AC-A7A3-F5078724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0BB5-D9DF-4489-936D-537549AC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8F19-3B55-448D-85F6-F341CA8A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A49C-9896-4D04-BD99-E4EDD224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44A-5E20-4E75-B879-FB53966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A9E5-F852-495D-8D9D-275145BA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654D-0717-41FA-ADD4-DA6E7D4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43B9-3480-42B5-816F-F2D4F92A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7872-8BB7-4920-813D-0694348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376F-CC73-4382-9D3A-90136C3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CAFB-18ED-43DC-8433-C7C4F28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A515-2624-476D-9B67-79E93136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CB3F-367F-4F5E-88C7-7595C9EC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165B-DC28-4D34-8232-AA780116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BB8A-7615-474E-B6A1-D62FC6B3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BF4-99F6-4A7D-9580-7B8C2E3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DE8C-E939-4740-86D7-B55C0E81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DDEA2-1572-4DCD-B072-4E19798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6834-D9E0-4CE9-A421-BC26BEB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F82F-E787-4397-B965-B3E8C60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D209-6616-4E92-88DA-95AD8D97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5392-82A2-423A-8D23-F919E255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0F63-D741-4231-83A4-8BEBF94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6615F-CEA8-4907-B7C0-3FA5793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FA78-9F3E-4DB5-8B1F-073D1A4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50814-C4F8-4272-B807-584C9956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52B-377C-4C60-91A7-6529B5CF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684A-9CB0-4AD6-93F5-1A224CFF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FB4C-D874-491F-9CD1-5764CB28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B3627-97A9-42DF-B5D7-8344E9A9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C69EB-1EBC-4956-BA4D-5A2C70D7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8111C-323A-4E77-90E5-80661FD8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224B-37BF-4B1D-A342-512A6FC9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45A88-9D6A-476E-B130-1221AF85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FB25-3503-4755-B057-49A4EA9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EFAA7-FEA8-41A7-AB5E-6321DC6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BA62A-24E8-4958-AA4B-96089BFB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F2E-4104-4AE9-B18D-01EEE3A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6AD4B-6F77-4D33-9FFF-1696CD78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357F1-0281-4A72-A692-B67D7905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5D24-42AB-4AA5-B4B7-F3B828CA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27AD-D1F9-41F7-BA48-DF878309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875B-51F0-483D-91EA-4DAEC911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5B3E8-4094-4979-B1F6-D36164A3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E7056-10CA-4916-976C-BEDFDD13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CD06-9205-41E2-9666-3CD37CC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D741A-F0D2-4BDB-8183-6F6D793A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C900-D986-4134-AFBC-96431C7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375-E116-435F-9F5E-28A23F8A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AAA30-CAC2-48B6-B6CA-2796A5D3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02D3-9907-4AC1-80C6-C5086F4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E31D-F2F8-4122-B258-2480479A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FED2-7342-44B2-8AA1-D5CD6D7C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C8CF4-FD99-4584-A808-8A49FDAF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611D-DAEC-49B5-8B3F-BAEAF228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EBE8-99D4-4674-9A92-FFD8434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5FEF-AE4C-4736-A47F-E5EB5B41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968FC-18D0-451E-9B85-ECB2FD63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286F-331D-438F-B23E-FC009AEE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7F5-7308-4435-B727-92FB3D6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D68F8-6C0E-4DB1-A8EA-E64C8E87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53E7D-D38F-4EA0-8DAF-8360DD17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5CF7-C6F6-4654-ADD7-DD425B0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2453-5C2E-49B0-B01A-2C22F00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FC978-9DE2-457E-B0F0-CB526FE5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13A9D-3703-4CE4-856C-0F1C08F8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5A5B-55CB-4862-B682-8DA6331C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40115-7897-45C0-BCFE-1E1141EA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8F564-6ED8-4E58-9F21-A06FC44D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CF604-534E-4B0A-B555-4AAAE954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19CFF-6870-4D2C-B66E-2FA710CDF510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1A64F-C81C-4DAD-B00B-BC3EE2811106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A0878-5320-40F3-80BC-2C5873273D7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1EBF0-B902-49FA-94BA-51063D074B7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137EB-9187-4331-A22D-2460BACCD65A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BE7D4-D9F1-47CC-92C8-6868D2677A66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AA2BC-09DE-4B3A-9317-0E0C6DA910A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65CCF-D095-4C0C-97E1-D36491A4176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CD42D-8420-4CB5-A7F6-FA00E3BD2CD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38BE4-DB84-416C-BB72-FC5DB8DB92B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17AAE-86B0-4C1D-BE55-B7CC92951E7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C40C5-76D6-472E-A5C6-68A28D4A0BE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21781-627A-45E3-8BFB-CC7B304B6FA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56F35-C5B8-4D70-9BD1-38425ACD1A0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5ECDC-9BA5-47C5-A8FA-048A62080F6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D5BE0-190C-479B-9401-CE59BC0D301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45F39-FFF1-4F58-9FC7-12C83E41774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2D916-F882-4990-A8CE-4EE41E85383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1290600" y="3733920"/>
            <a:ext cx="44229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Obrázek 8" descr=""/>
          <p:cNvPicPr/>
          <p:nvPr/>
        </p:nvPicPr>
        <p:blipFill>
          <a:blip r:embed="rId1"/>
          <a:stretch/>
        </p:blipFill>
        <p:spPr>
          <a:xfrm>
            <a:off x="7956720" y="2957400"/>
            <a:ext cx="1083960" cy="1086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0" y="2733840"/>
            <a:ext cx="658008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Trebuchet MS"/>
              </a:rPr>
              <a:t>Klíčové aktivity projektu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7" name="Obrázek 9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114720" y="115920"/>
            <a:ext cx="2627280" cy="544320"/>
          </a:xfrm>
          <a:prstGeom prst="rect">
            <a:avLst/>
          </a:prstGeom>
          <a:ln w="0">
            <a:noFill/>
          </a:ln>
        </p:spPr>
      </p:pic>
      <p:pic>
        <p:nvPicPr>
          <p:cNvPr id="848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869160" y="2957400"/>
            <a:ext cx="904680" cy="10861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Informační portál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TextovéPole 2"/>
          <p:cNvSpPr/>
          <p:nvPr/>
        </p:nvSpPr>
        <p:spPr>
          <a:xfrm>
            <a:off x="108000" y="2205000"/>
            <a:ext cx="89280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složen z těchto částí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atabáze poskytovatelů sociálních služeb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Kontakt na zadavatele sociálních služeb s možností zaslání dotaz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c) Vyhledání sociální služb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) Důležité odkaz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fungovat přes internetové rozhraní a bude přístupný široké veřejnosti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Obrázek 2" descr=""/>
          <p:cNvPicPr/>
          <p:nvPr/>
        </p:nvPicPr>
        <p:blipFill>
          <a:blip r:embed="rId1"/>
          <a:stretch/>
        </p:blipFill>
        <p:spPr>
          <a:xfrm>
            <a:off x="8434440" y="1062000"/>
            <a:ext cx="674640" cy="684360"/>
          </a:xfrm>
          <a:prstGeom prst="rect">
            <a:avLst/>
          </a:prstGeom>
          <a:ln w="0">
            <a:noFill/>
          </a:ln>
        </p:spPr>
      </p:pic>
      <p:pic>
        <p:nvPicPr>
          <p:cNvPr id="869" name="Obdélník 3" descr=""/>
          <p:cNvPicPr/>
          <p:nvPr/>
        </p:nvPicPr>
        <p:blipFill>
          <a:blip r:embed="rId2"/>
          <a:stretch/>
        </p:blipFill>
        <p:spPr>
          <a:xfrm>
            <a:off x="542880" y="2876400"/>
            <a:ext cx="8528040" cy="2122560"/>
          </a:xfrm>
          <a:prstGeom prst="rect">
            <a:avLst/>
          </a:prstGeom>
          <a:ln w="0">
            <a:noFill/>
          </a:ln>
        </p:spPr>
      </p:pic>
      <p:pic>
        <p:nvPicPr>
          <p:cNvPr id="870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72" name="Obrázek 7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40720" y="1046160"/>
            <a:ext cx="58248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75963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pracování základních dokumentů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20760" y="2349360"/>
            <a:ext cx="85024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Základní listina komunitního plánování sociálních služeb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Jednací řád ŘS a jednací řád PS 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8920" y="752040"/>
            <a:ext cx="7248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hodnocení stávajícího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33520" y="2336400"/>
            <a:ext cx="8286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Smyslem bude zjistit jeho aktuálnost a potřebnost sociálních služeb a souvisejících aktivit, které jsou v dokumentu uvedené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zmapováno, kolik z plánovaných aktivit bylo uskutečněno a s jakým úspěchem, případně zjištěno, proč k realizaci aktivity nedošlo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ýstupy této aktivity budou sloužit jako jeden z podkladů k vypracování nového SPRSS pro dané území ORP Šternberk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Analýza sociální situac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98900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4 dokument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ociodemografická analýz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skytovatel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třeb uživatelů sociálních služeb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zdroj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eřejná setkání a vzdělávání účastníků procesu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TextovéPole 2"/>
          <p:cNvSpPr/>
          <p:nvPr/>
        </p:nvSpPr>
        <p:spPr>
          <a:xfrm>
            <a:off x="0" y="2133720"/>
            <a:ext cx="9036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3 veřejná setkán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íl: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) informovat o procesu KPSS širokou veřejnos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) sběr podnětů a připomíne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) představení výstupů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Vzdělávání účastníků projektu v oblasti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4 vzdělávací semináře pro osoby zapojené do procesu aktualizace komunitního plánu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Účastník semináře obdrží certifikát o absolvování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Řídící skupina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TextovéPole 2"/>
          <p:cNvSpPr/>
          <p:nvPr/>
        </p:nvSpPr>
        <p:spPr>
          <a:xfrm>
            <a:off x="0" y="2205000"/>
            <a:ext cx="90360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 řídící skupině bude zastoupená skupina uživatelů, poskytovatelů a zadavatelů sociálních služeb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připomínkovat jednotlivé projektové výstupy a schvalovat jejich finální verz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a základě výstupů vyhodnocení stávajícího KPSS a z analýzy aktuální sociální situace stanoví hlavní témata, jimiž se bude plánovací proces zabývat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acovní skupiny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TextovéPole 2"/>
          <p:cNvSpPr/>
          <p:nvPr/>
        </p:nvSpPr>
        <p:spPr>
          <a:xfrm>
            <a:off x="179280" y="2227320"/>
            <a:ext cx="9036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Pracovní skupiny zabývající se problematikou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eniorů a osob se zdravotním postižení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Rodin, dětí a mládež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Etnických menšin a osob jiného sociokulturního prostřed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atalog poskytovatelů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TextovéPole 2"/>
          <p:cNvSpPr/>
          <p:nvPr/>
        </p:nvSpPr>
        <p:spPr>
          <a:xfrm>
            <a:off x="108000" y="2205000"/>
            <a:ext cx="8928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V katalogu budou kromě poskytovatelů sociálních služeb uvedené informace i o dalších organizacích působících v sociální oblasti a umožňujících sociální integraci cílovým skupinám projektu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Závěrečná část katalogu bude obsahovat kontaktní telefonní čísla, jako jsou tísňová volání, linky důvěry, krizové linky pro děti a mládež, apod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polečně s katalogem poskytovatelů bude vyroben stručný leták s názvem: Síť pomoci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7640" y="752040"/>
            <a:ext cx="7343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pracování Střednědobého plánu rozvoje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TextovéPole 2"/>
          <p:cNvSpPr/>
          <p:nvPr/>
        </p:nvSpPr>
        <p:spPr>
          <a:xfrm>
            <a:off x="114480" y="1916280"/>
            <a:ext cx="89154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Tento dokument bude rozdělen na tři části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Analytická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výstupy aktivity Analýza sociální situa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trategická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rovnání stávajících sociálních služeb s jejich uživatelskou potřebností, SWOT analýzu, vizi rozvoje sociálních služeb, cíle pro jednotlivé skupiny uživatelů, opatření a aktivity pro naplnění cílů a finanční prostředky na jejich realizac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Implementační čás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stup a navrhované kroky k zajištění implementace komunitního plánu včetně popisu nástrojů ke kontrole a vyhodnocování tohoto dokumen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oučasně bude vypracován tzv. realizační plán na období jednoho rok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3:26:39Z</dcterms:modified>
  <cp:revision>30</cp:revision>
  <dc:subject/>
  <dc:title>Jednací řád</dc:title>
</cp:coreProperties>
</file>