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00A4D-839E-408E-BA59-F1D050DBB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EDBC0-2D0E-42E2-B16B-4D6378E33ADC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5D203-ABC6-4D49-A3AB-E2B7EA1A755C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E64FF-1E10-4BE1-899B-21AA1215BB28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BE338-6421-4E2D-BE6A-1231E31F4624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7B911-04B0-4B47-9355-A49330F31D03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89BA1-CBCE-4987-909D-5D7C5CCB241C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2E5B1-B1B8-4C68-AB33-3EFE0B16F4C9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75C47-EAB5-4CF0-B925-1F8230CE7C7F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22E0A-158A-43B6-9D3B-5CA301CF09AD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9E9-D0D0-4AEC-8078-85000994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544-A066-490D-9F12-077F2FE8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CEC3D-E1A9-42D1-9D98-2B9FE8A8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F4B30-0E0B-4173-913E-8898711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3357A-165C-49DE-86AE-5428449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4DE5F-183B-47E6-8A77-C313974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FC93D-8E09-4B84-99C3-FA704EB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06E58-D8CF-426C-821B-F3C1A1C2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DFF85-D709-459A-A86A-790748B5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A4262-D13B-44E5-AB8E-DC0D298F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610C7-C44D-46B8-A591-C5521AE4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C7DF2-0DCA-4B05-B19F-3BCADC61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10C-21FE-4667-B372-BE4D1750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94C2-4669-491C-85B5-C36075AF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9D25E-090F-4B29-AFA8-7DF2563B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59CB8-C7AD-4451-AA3C-4C3DC27C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DC0D5-9B1B-4E43-8A5D-B710E994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09189-8F61-4263-AB61-191A4BA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D5448-80F8-4231-993B-877135C4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5DF28-F78A-4A70-AAC2-27DA062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59756-84FB-4314-AC8D-CCC5BCF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24B6A-1BC0-4B09-8999-5F3616D6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9E33C-2B97-4784-A418-F8CE9EB5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6CA-D0A8-4D25-B4B8-66F18D5D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273E6-2FA6-4C56-BBDD-D94BBDE8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77F4B-E4E4-4245-A888-38599221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6433A-7875-49E6-B783-8C1CC68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43AA3-609E-4F42-984F-3DD67D99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772A8-AFA8-4AF1-9860-F8F530EA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E09C-C2B3-48EE-B87D-1E650839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629B0-5B69-4B28-BC1D-10C8890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A5B38-02F3-4B51-8EDC-D4AF953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F6D70-7892-40B7-96B9-FB70E9EA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7919C-34F9-455C-B514-72624CB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5E8-211F-40E0-8337-02617F16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EC4CB-E71F-4186-9A28-318AC30C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BD27C-8F88-4037-BDCE-676A778E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5A7A4-B0FC-4EDD-906F-36E73069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34DE1-CD29-4181-95CE-72C310BE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48234-8223-4113-98E8-B0B2923E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95D08-8A7E-4A15-8D92-82FC1912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B9FC3-5D4C-4674-AF2F-525E5C37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D7DD4-5134-4707-BBC3-79D3D343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AF7F8-D943-43DF-AAAA-95E1FB51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5D5D5-FD64-4D69-A5D4-50287A2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CA48-1D5C-4528-A9BB-45CABE15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C9669-ABE1-4168-9FF9-4976C40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D4D26-4CAD-4006-928A-E7622DF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56783-581B-4F49-B1F7-64B97DDE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A1C79-C1D8-4724-A0A6-62F4F599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39822-B6B7-4E61-92C5-703A51FF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B2DA7-0305-4BB7-8A73-085C043B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DC7E9-30FB-4BEA-B0FE-1238E52A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6F9ED-146C-4D6C-8B43-79A0AA20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5B10A-BB7B-4EC7-BC59-CC25684D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FD28E-D6FF-4053-A33B-BD9277A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9D5-4394-47E0-B3CE-C9D96B8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17C0C-F86A-4CD9-9A16-70AF9C2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47287-B675-49C4-B216-47DA688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1AA42-D864-4FA2-9F35-99D5440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84FDF-54D3-4464-95F5-ED5192B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5D36A-4A01-432F-91E5-77353671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D03D2-8A32-43CC-B5E2-C002A716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E4DF0-C40C-430F-88CD-265758A0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76455-5A31-4F2D-BA9A-C59D4A37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743CA-407A-4486-8EA1-A7AD27D8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4F1D8-8591-4775-AC86-FB585685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E284-FCDF-453B-9C47-BC2C5856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266C0-93D7-4225-8FE3-5F3011DC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E7AC9-80F8-4183-A0F1-6738D8AA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28BF8-5AB3-4CBC-B4A5-28D13306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7D4E6-D2B8-4FFA-93F3-C2C4DD5A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4E85F-912E-4DE9-84DF-FB4EDBEF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F3B38-8C3F-4427-B15F-E43B2F3C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F4E56-CB32-433F-BCDB-EB7B2AC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0993F-1383-4BC3-A8D4-FC0DFF96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3B2D8-2F03-4848-B9C5-C4332372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097A9-006A-4815-A117-CF45E617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95B0-89C9-4383-B138-264F5E22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7E757-433C-4615-BBD1-57A703A3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48C1A-C688-4A6B-87DB-1C1C857B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C47B5-ECE3-4FC1-974E-41F56DAA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20FE5-1524-4D69-B01F-5FA79424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A4ADD-BF62-4970-892F-054E27A3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AEC51-8BB2-444D-A89A-1CB632D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A355B-ADF5-4F2A-86DF-9D83535F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0AFE1-FED0-4570-ACE1-2082B82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A695B-C6C1-4EA9-9843-E141CCF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5252E-7EBF-497D-A269-FA33753D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4031-A2C9-4A47-9E99-E92E6C9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9E564-3786-43C7-8B9C-40794B72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7AA7D-4CB3-4460-B08E-801A1988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7BD68-5017-46FF-AA28-7E779DF1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EEC24-5192-4CDE-8E55-9243E86B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A1F69-4B05-4E0C-816D-028CC512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3061A-9267-4A4B-8581-66AF780E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264C9-27DD-4311-8545-31322FDE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9EDAC-E342-4C05-BC4C-FFE87626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9388C-31F4-4D4E-B2C3-437B57F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F8C19-0A4F-44D5-B9C6-A1D3F20C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3B8F-7DE7-4044-8376-FBB4AB8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E3A34C-6D1C-4139-8B43-2CFFDA8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9E411-42F7-4F12-BDBC-8CD55F42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9AC53-24C2-46A8-BF20-6E4C4416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2568A-0501-4F9A-A252-4200481A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9E5FA-02C1-4909-9F26-4E120D9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9F740-BC31-4A51-99F6-EE0BDAB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53729-C6F5-4EB8-B208-38346CF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1DAAE-95CC-4637-96BF-BF2727E9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56A05-B711-46C0-A29D-B71746B4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D69AA-0407-4CAD-839F-F9516F51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33C-64CD-4D2B-8CE6-3BA8785F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3BA4-A861-43EE-A96B-EEA436E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DF253-988E-487E-9B2B-2BDCCF14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D02A7-02D6-4D41-80CF-62EDDAD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6A09D-FE06-4AE8-87F8-3CBCD6C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24228-10D9-4801-A2D4-FCFA718A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05203-104D-49B2-BF24-27CD45F1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1F7BA-F3DF-4166-96CC-741029DE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12A16-A0DE-4BC4-9FFA-3745572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5901D-61A2-46DA-9790-70231C7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D98B3-03A9-460C-9966-DE3106B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6B23F-E643-4D0D-8C08-B592846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450C-50C4-442C-8CC8-078BA2AB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033CC-E6E1-4FD8-859F-B6245F47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7EF6CA-C090-4EDA-B202-E74F330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4022A-C72F-4486-B6E0-D574F73B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AECE2-3956-4258-9DB6-873D571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6D4E3-B195-44C7-9655-EF5A7EA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6BAEE-313C-4E44-B061-F27C1AFD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2AF02-C999-49D4-94FE-E665CC60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8AD4-BE6A-4BD6-8B9A-5914ACA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A531-B787-4E36-9E53-9E57627D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749F-7846-45E7-9FB3-CBB1153D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4F20-E09B-4211-9BFD-F6FF0AAD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5275-A836-439C-AEAC-8AD6E04D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029A-DC2C-438A-8651-47B5B994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7CAA-B638-451A-84E3-A0B4926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8B36-FA70-4623-8486-1E592A5C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B96-E6DB-4A5D-871C-75EA0AC7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DDDC-A9A9-4B4F-8946-E3AB4DAF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27B1-64C4-41EF-B96B-2D46BAF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BB61-1386-4F2B-AEBE-5D0499AF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5090-527E-41FE-83EC-9DD2E5BB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1C99-7889-4191-820C-EA4C5DA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5772-F68E-4300-B3EC-A700450F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B85D-A1AE-4E54-ACAD-1671E39D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54E4-CCA7-4E00-A52B-9706D2A8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8D0D-97A5-4105-8322-C80CAB7A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9470-702B-484B-9D2E-601DECA2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829-7897-4147-8590-C2FB0521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92AE-AC6F-4AA6-9275-BD2E56B0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336F-9C03-4027-882E-577D7208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A120-0999-4825-ADD0-2C4313B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EC1B-C3F8-4E0C-87A5-46FCE65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178E-F8C6-4211-8471-DDC75851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40924-93B8-4D52-B7C6-66668DB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78F3-BC01-47F0-9CBE-8AE3417E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F8AC-3994-4735-AED2-7A5FAAA8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04E8-EF99-41C6-9FFB-7EFD430B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3401-C73F-4849-B11E-0F38BCA7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3D7-C8BE-4EE6-AAD5-68603379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BF5B-06AB-4E65-98FB-8B23018C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A3A3-1DB3-4A7B-A841-9ACBED20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09792-8382-44BA-BCA9-26F6395C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B110-9207-4F8F-96A2-8459B292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A7B14-21E1-4673-B435-3CFFE9B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CC5E-BB1B-4679-91DF-CA06BC5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7D8E-038B-4269-8C49-F65F1B4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3C014-0EAC-4FA0-9E96-775A2DC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A9BD-DF9A-499F-A936-302E519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A40A-C079-4C94-8092-31A96651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C4F-29C1-4A13-B348-41154FC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EBF5-E4D4-4A4B-A14C-D99514C4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651D-3EEE-4F85-AA4F-350AC431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2648-C4C6-4038-B6FD-D694FE7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C66B9-9CA3-4D37-88D2-6EAE560E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F5E9-11A9-4FB9-932A-3D86916A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0CBB2-DAD3-4962-AA75-B93D525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BF23-F949-49AA-B3D4-311DAB7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28E9-19C2-4A17-BCA3-E2E889CA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9F05-DC45-4AD4-8887-4A85600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F1F1D-3A38-4A1C-B435-70F8A045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F3E-E146-48D1-AD71-CFAD514E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4014C-C725-4927-A1E6-24B3193D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C47B-3D44-4134-A689-225AF227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7874-5E64-416C-9353-4CD8168B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5D042-2143-4AB2-B8EA-DFA91D7A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3128A-14D4-48EF-B24C-19AF857A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E7D9-9EBE-43E5-8994-D7BBF2C0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3EF96-BE32-45F8-9168-E3E0616F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00DD9-3599-42D9-AF9A-9BC78E55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2AD1-1BA0-40EE-923C-24039523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797F4-0C1B-4D25-B106-FEE1CE3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45F-B191-46C3-A13B-7103351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69E1-1FB0-4981-98C5-C844CA11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1C51-2200-4C69-9A11-FC20306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97E5B-1EA5-4CF6-B6A0-F49C172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105A-D99B-4A7E-9983-6B6A8512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68A5-98E2-4CB5-9F7A-5F3103D1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33346-98B4-4533-8609-45EBE975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6BE18-9BC2-4B94-8AD4-5C02F509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F9114-DC81-45CD-B236-EE31F894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7F2E8-57F3-4B95-835A-A027099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B7E93-D12A-4406-BBA2-933EBDA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060-909E-4BB8-BAB7-F9B6EED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F33B-2A0A-4AF0-8137-87E75144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FC09-CDA2-4F5D-9E3B-859A99F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97FE6-1DB2-4B7C-881D-510A47FC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43C70-FDCF-4D12-B4D8-638E967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F1DB-6D85-48A2-8354-0B887A7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C52F-2477-49E2-B9F9-3157E1BF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B3CE7-A0CB-4B4C-80FE-5D9FDBC1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33967-5EA9-436E-8D85-E614358F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2FC90-DCA7-4FA4-9B42-EF54243D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A211-486F-4DD4-9303-5478ACFC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FF717-309F-4F06-B147-21062CA480C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AD7DE-C2BE-41C0-8DC6-4AFB5C1AE156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08C57-9459-4EA6-9CEC-D309949CBBB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4DC9C-19C4-4B6F-BD51-47F9B36B82C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74276-0017-4FD5-AA53-2FE435F0037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03170-68A0-43F3-92F3-4C465BB2885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1BD57-9EA8-4FDB-8512-21DCCEEAD2A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C4065-9CEC-4E6E-97F7-1AB65292D9C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AB78D-CEDB-4E93-A372-59420CD1FBF5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5FDBA-A594-41E7-BF5C-CFB1896E236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72DDC-BB63-4A8F-B10C-74C86FD821A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F13A5-038F-4B82-9971-353F002BBE2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03D87-7F73-433B-AFE1-8489ABD0152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653B2-A878-48C6-BC07-A47B59745E6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9DF44-A705-4814-AF7C-89E7BB7DCF9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C65B2-F072-468B-AA73-6DB4087DC28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4E42F-7048-4AE4-BE49-DE6904DB8C1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99F05-5756-4F39-BF41-B565AFCFF62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1290600" y="3733920"/>
            <a:ext cx="44229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Obrázek 8" descr=""/>
          <p:cNvPicPr/>
          <p:nvPr/>
        </p:nvPicPr>
        <p:blipFill>
          <a:blip r:embed="rId1"/>
          <a:stretch/>
        </p:blipFill>
        <p:spPr>
          <a:xfrm>
            <a:off x="7956720" y="2957400"/>
            <a:ext cx="1083960" cy="1086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0" y="2733840"/>
            <a:ext cx="658008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Trebuchet MS"/>
              </a:rPr>
              <a:t>Klíčové aktivity projektu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7" name="Obrázek 9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114720" y="115920"/>
            <a:ext cx="2627280" cy="544320"/>
          </a:xfrm>
          <a:prstGeom prst="rect">
            <a:avLst/>
          </a:prstGeom>
          <a:ln w="0">
            <a:noFill/>
          </a:ln>
        </p:spPr>
      </p:pic>
      <p:pic>
        <p:nvPicPr>
          <p:cNvPr id="848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869160" y="2957400"/>
            <a:ext cx="904680" cy="10861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Informační portál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TextovéPole 2"/>
          <p:cNvSpPr/>
          <p:nvPr/>
        </p:nvSpPr>
        <p:spPr>
          <a:xfrm>
            <a:off x="108000" y="2205000"/>
            <a:ext cx="89280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složen z těchto částí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atabáze poskytovatelů sociálních služeb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Kontakt na zadavatele sociálních služeb s možností zaslání dotaz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c) Vyhledání sociální služb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) Důležité odkaz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fungovat přes internetové rozhraní a bude přístupný široké veřejnosti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Obrázek 2" descr=""/>
          <p:cNvPicPr/>
          <p:nvPr/>
        </p:nvPicPr>
        <p:blipFill>
          <a:blip r:embed="rId1"/>
          <a:stretch/>
        </p:blipFill>
        <p:spPr>
          <a:xfrm>
            <a:off x="8434440" y="1062000"/>
            <a:ext cx="674640" cy="684360"/>
          </a:xfrm>
          <a:prstGeom prst="rect">
            <a:avLst/>
          </a:prstGeom>
          <a:ln w="0">
            <a:noFill/>
          </a:ln>
        </p:spPr>
      </p:pic>
      <p:pic>
        <p:nvPicPr>
          <p:cNvPr id="869" name="Obdélník 3" descr=""/>
          <p:cNvPicPr/>
          <p:nvPr/>
        </p:nvPicPr>
        <p:blipFill>
          <a:blip r:embed="rId2"/>
          <a:stretch/>
        </p:blipFill>
        <p:spPr>
          <a:xfrm>
            <a:off x="542880" y="2876400"/>
            <a:ext cx="8528040" cy="2122560"/>
          </a:xfrm>
          <a:prstGeom prst="rect">
            <a:avLst/>
          </a:prstGeom>
          <a:ln w="0">
            <a:noFill/>
          </a:ln>
        </p:spPr>
      </p:pic>
      <p:pic>
        <p:nvPicPr>
          <p:cNvPr id="870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72" name="Obrázek 7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40720" y="1046160"/>
            <a:ext cx="58248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75963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pracování základních dokumentů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20760" y="2349360"/>
            <a:ext cx="85024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Základní listina komunitního plánování sociálních služeb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Jednací řád ŘS a jednací řád PS 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8920" y="752040"/>
            <a:ext cx="7248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hodnocení stávajícího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33520" y="2336400"/>
            <a:ext cx="8286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Smyslem bude zjistit jeho aktuálnost a potřebnost sociálních služeb a souvisejících aktivit, které jsou v dokumentu uvedené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zmapováno, kolik z plánovaných aktivit bylo uskutečněno a s jakým úspěchem, případně zjištěno, proč k realizaci aktivity nedošlo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ýstupy této aktivity budou sloužit jako jeden z podkladů k vypracování nového SPRSS pro dané území ORP Šternberk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Analýza sociální situac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98900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4 dokument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ociodemografická analýz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skytovatel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třeb uživatelů sociálních služeb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zdroj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eřejná setkání a vzdělávání účastníků procesu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TextovéPole 2"/>
          <p:cNvSpPr/>
          <p:nvPr/>
        </p:nvSpPr>
        <p:spPr>
          <a:xfrm>
            <a:off x="0" y="2133720"/>
            <a:ext cx="9036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3 veřejná setkán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íl: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) informovat o procesu KPSS širokou veřejnos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) sběr podnětů a připomíne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) představení výstupů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Vzdělávání účastníků projektu v oblasti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4 vzdělávací semináře pro osoby zapojené do procesu aktualizace komunitního plánu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Účastník semináře obdrží certifikát o absolvování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Řídící skupina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TextovéPole 2"/>
          <p:cNvSpPr/>
          <p:nvPr/>
        </p:nvSpPr>
        <p:spPr>
          <a:xfrm>
            <a:off x="0" y="2205000"/>
            <a:ext cx="90360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 řídící skupině bude zastoupená skupina uživatelů, poskytovatelů a zadavatelů sociálních služeb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připomínkovat jednotlivé projektové výstupy a schvalovat jejich finální verz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a základě výstupů vyhodnocení stávajícího KPSS a z analýzy aktuální sociální situace stanoví hlavní témata, jimiž se bude plánovací proces zabývat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acovní skupiny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TextovéPole 2"/>
          <p:cNvSpPr/>
          <p:nvPr/>
        </p:nvSpPr>
        <p:spPr>
          <a:xfrm>
            <a:off x="179280" y="2227320"/>
            <a:ext cx="9036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Pracovní skupiny zabývající se problematikou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eniorů a osob se zdravotním postižení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Rodin, dětí a mládež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Etnických menšin a osob jiného sociokulturního prostřed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atalog poskytovatelů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TextovéPole 2"/>
          <p:cNvSpPr/>
          <p:nvPr/>
        </p:nvSpPr>
        <p:spPr>
          <a:xfrm>
            <a:off x="108000" y="2205000"/>
            <a:ext cx="8928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V katalogu budou kromě poskytovatelů sociálních služeb uvedené informace i o dalších organizacích působících v sociální oblasti a umožňujících sociální integraci cílovým skupinám projektu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Závěrečná část katalogu bude obsahovat kontaktní telefonní čísla, jako jsou tísňová volání, linky důvěry, krizové linky pro děti a mládež, apod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polečně s katalogem poskytovatelů bude vyroben stručný leták s názvem: Síť pomoci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7640" y="752040"/>
            <a:ext cx="7343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pracování Střednědobého plánu rozvoje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TextovéPole 2"/>
          <p:cNvSpPr/>
          <p:nvPr/>
        </p:nvSpPr>
        <p:spPr>
          <a:xfrm>
            <a:off x="114480" y="1916280"/>
            <a:ext cx="89154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Tento dokument bude rozdělen na tři části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Analytická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výstupy aktivity Analýza sociální situa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trategická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rovnání stávajících sociálních služeb s jejich uživatelskou potřebností, SWOT analýzu, vizi rozvoje sociálních služeb, cíle pro jednotlivé skupiny uživatelů, opatření a aktivity pro naplnění cílů a finanční prostředky na jejich realizac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Implementační čás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stup a navrhované kroky k zajištění implementace komunitního plánu včetně popisu nástrojů ke kontrole a vyhodnocování tohoto dokumen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oučasně bude vypracován tzv. realizační plán na období jednoho rok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3:35:25Z</dcterms:modified>
  <cp:revision>30</cp:revision>
  <dc:subject/>
  <dc:title>Jednací řád</dc:title>
</cp:coreProperties>
</file>