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E6B09-57D6-4602-BA46-727FC89ED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F294C-5381-4C73-89BA-78581D7A34EF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DA0C0-2740-42DA-8669-3C31533639AB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7011C-C74C-41F6-B41E-B69462B4479E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27566-CC0F-44B3-9AE9-5E7901428E90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2090E-6A6D-40AF-BA0D-50BD81306CF1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84443-1378-48F6-979E-B277F2EF6692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6F1B6-563B-4F16-BBD0-34E922B5D3F7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A377D-BC08-42E6-93EC-7237C6E71C25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57129-4B2F-4ECB-A34F-8E1A7E9DF543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800-8CDF-47BA-978D-1157FB9D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ABB-FCF4-4005-BCB6-92AAD4E0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1AE73-D151-4A90-B919-095B0D2D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2748C-2934-4275-9760-C029EE52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C95DD-8CD8-4F4D-B219-771E300D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9372A-59E4-4390-B4C2-344548A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C555E-3535-4CF2-94C1-4E335832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58EF3-E05B-4A52-AF60-69B3AE5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26CFC-78F5-4E61-97D0-3275E332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E3220-D439-46F4-B50C-BE2450BC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55EB1-4446-469A-8DF1-EC242648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F7606-6E37-4820-80B3-6E999046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6F1-072C-432F-8A3D-18CEF6D6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50805-EE23-46C1-8295-00CDBC55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23AAB-C255-41BC-9CEE-A425EC05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621E7-EC66-4B82-9C35-CE9E3FDD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DDDDE-D6BA-469E-9B1F-19597E66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BF31C-A7A4-4A4B-853A-B78DB956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B36FF-5D69-4F90-9B35-4EB6D8A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9770E-C25A-4253-B567-59B63FB5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AA95D-3051-46A3-9FA0-AA712AAB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E9FC3-345D-44AB-8FC2-1F0F6FA3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38245-45C0-4819-907D-8EF881BE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045-2866-4CD0-B410-811CD785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E562B-FBFB-478F-AA6E-EE4FFB35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D76BB-713E-4A4C-9992-A036BD62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8DC3F-919E-4D3F-A513-614AD391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AC665-A56E-41B8-9605-EC427C59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2F99A-8A42-4DF4-A117-94389923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43669-0A9C-4521-8D13-70BB80D6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AE707-6436-4545-9870-667BA981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31D37-E21C-49D9-ADE9-23D3822D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6E247-4E47-4560-BC62-120A3AF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21F9F-0720-4DD1-9E3E-31B99658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358D-BB2C-4C21-B4B1-05A60B57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9BAA5-F284-401F-B21B-5313E0B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CD1B8-EB78-46F2-98C9-CB08A5B4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5FE57-D7D5-42A1-A6DD-9874E469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50C1B-628F-49DC-A681-B738E39C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27A62-48C6-4FA5-9072-58E1B01A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B996D-FA5C-4B06-B03E-95A10DC8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30985-F615-4396-A022-CEFA3C88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2BA15-3333-4E3E-9D0F-C26A62BC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58CC1-D441-4E55-8C60-E7E6A157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481DF-6B4E-46D5-9E32-0AE5D065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9179-38BE-43DB-AC7D-AD357B0B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C5EB2-83FE-49DB-97F4-B039DE48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8C254-205E-4EBF-838D-C8C1142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190EE-F267-4F7D-B17C-6D8B06CD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AEE1A-0A79-4DE6-9E31-0428A3D3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1B3B5-AA1D-453F-83CE-312C1224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B3C47-4D31-4B1C-B273-52820A02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E355A-B37F-415A-A542-10B87FA4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E93FD-F098-4D4B-83AE-466B8F63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68EC2-36F9-4B64-B254-630119BC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BFB38-5EDA-4E38-8634-D4CAEA07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6AF8-1EDB-4C10-9F28-C0E64246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BE3D0-A0B9-440C-909E-8D170F99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06EA8-EA30-4E43-BA2E-68B9390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51B70-0BCF-45D4-845C-7B61B3BD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F7F6C-E9EA-4B85-A136-D33C9986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0277A-6614-452F-ADB0-A6DA2D4A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60909-CC90-4D10-ADED-9078630A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202B6-F3CC-47F4-8520-1860CA2A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94ACB-A9B5-4900-AE39-DA8DB52F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25F90-7AD8-4285-89DF-CF1102A0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455A8-01F4-436D-BB8E-863B828C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6E1C-7229-454A-990F-BA01BC00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18858-A317-454C-9F96-FDF7C8A4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B89F3-CC5B-4E98-A11A-82FC7D1D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18010-2B6B-4BE8-9C56-B77A4E12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2AD8F-D86A-492D-A15D-01FDECD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C778A-B812-4F87-BD9F-09784F25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00C08-2CF0-459D-AE01-18B1FA21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1F344-1C97-4FE9-9E32-CEA4D63F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1E8E3-63AC-4E59-A3C3-0C78458F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757CA-2AE5-489A-BC16-7247CAC3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B6C16-8EB1-4E0D-B5B4-4F01F54B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756A-E0B8-4D87-BC9C-1A73687B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C3E3C-BBD8-45B6-B52F-3AAEC4C3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8B683-9DA5-4E82-A3D1-89DAA8DC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DC03F-4A28-4ADB-9983-EA2A60BE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7DF09-3E93-45B9-B038-8077CE41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8DD7F-6AAB-4D91-9948-1C84401C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56144-AE10-4B59-ADDA-3FE287F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4C98E-DCEB-478E-991D-3BAED52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A5E36-2460-4306-BEFC-6BC6471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4C325-E1CE-4835-B961-5CD48A9A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7A2AF-47AC-465C-80A0-3192C66E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EBC1-3B75-4643-93F1-74FC643B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B1F6DE-3A84-4C17-ABF9-84209A63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9D700-9B39-4BA4-9D61-02834676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D3999-3F7B-494C-97D8-F3715592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20C33-E70E-41CD-9D12-120ABDA8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49D59-9AC8-4356-ABAE-AA9C5113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988E9-B26E-4D6C-8AC0-FB68ABE8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596F8-454F-4B95-A902-157A994C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2F84F-C267-454E-9A9D-9355FA68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DEBA9-E412-4AF6-9EBE-B40D5E10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294E2-9DCB-428E-8B72-3882BC33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4A97-2DBD-4486-8312-D73EF55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3E271-64E5-4CE9-9166-AC9CDF75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2C8B8-7A12-486C-9044-AC35CFF7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2C5BF-6125-44E2-8683-8A570BB1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65A02-8EED-4E61-B9B4-A7677F0F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AE9CF-4B24-4EF2-89F5-6DB8B35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4D8D60-5346-4C4B-8326-DAE04E72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4FC1C2-DFFE-46A9-BAC8-D3D0495D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6018C-8C09-479E-B637-FD3D0E12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402F3F-F58F-432F-BF2E-270BD7B2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F9F44-9427-4F81-868A-94F2FD5A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3F1-7993-4AEA-9606-6DCE4FE4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4B1A-7261-4D15-92D3-644EF77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866F7-0584-4242-BB9B-4CEA21AE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9553B-2CBD-450B-8432-C0B8493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203F1-E4FB-45EC-9999-00F23331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34475-BEEA-40B9-A222-78431513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DB9EAA-7EF5-4181-B5C0-4329A9B2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880A5-2C03-422A-89A1-A7283261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329478-A9A1-4F74-97CB-E15CABC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02780-8D03-40EA-8E08-3C839455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BFFEB1-1411-4FF0-A080-B42687B6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FD03E-52C6-47D5-8DE1-A213C4A8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26C8-DD10-4FB5-A76B-333B0096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B692B-B997-4EA6-99FE-564D5FCA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98B8A-B169-4F26-A5A6-2C1D1A10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70DF41-E446-4BD0-BE33-413DD8FD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75884-F65C-4D2F-813D-2FB19AB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D8799E-FB17-4385-BC38-E19C835D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67258-F5AD-40D9-BFDF-6A957D3D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96FBE-7C68-42A1-AA1D-0A7900FE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7BAD-8BFD-4B5E-9749-031FB3C2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71AB-6F1F-4AAF-8F49-F3BAFEB7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0F2B-FBE5-470D-82A0-354DB5F7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7800-0B58-4823-85ED-262E867E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9563-DF35-4489-8A2F-08D36129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6646-4988-403E-B3B9-7D5F1FB3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F1C3-8BB9-40E1-A581-CD09BFFA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689E-8864-4E73-A2D5-DE788B16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579-6DCA-4C1D-9A23-84982C3E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27263-AD9B-4DDB-93DB-D248AAD8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7C9F-5527-4D22-8C12-5E6054EA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0AC08-9191-4ED9-BEEF-A76930C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16FE-BD81-4BEF-87E1-07B05877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3A721-3D0E-4323-8DAF-18760496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BB3B-A067-428B-B953-EFA1CC8F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DE84-82E3-482B-9659-AB66D347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D696-9819-483D-9F7D-C3BB98F5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9ECE-EA82-46F8-97A5-00FD451D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3D89F-2794-4A61-AAE8-F427908D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149-1EAA-46F6-8912-746882C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E5CA6-32A9-46C7-8E59-AEE6ABF1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65A8-5957-4AE1-99C4-7E71E23D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32D5-F0E1-4719-A23E-2C28C0C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A85B-4B12-4E6A-9CCC-95E06F36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04E06-A4BD-4CE2-BBD2-46E401D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B25E-306B-446B-AC1B-FDD8A33A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84EA-5E8D-40A1-AA31-1D644ABC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C810-3576-42DE-9C26-68642A7B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D6C7-AE39-4EDB-B24A-98849B8E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764A8-BE01-4230-94B0-E3F9C74C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848-C42A-4AC5-9845-4D6F1A81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3DB16-F13B-4D61-B9FB-99E3A0E6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0557-3820-48E6-AF7B-901B0FE8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94B9-F9CB-458D-AB94-C1AF9846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25207-32E1-4402-9E10-CE831B75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2A97A-4C02-4E45-99B8-EF6C01B7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32D52-C0D6-43AE-A47B-FA014AD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4D247-87F4-4BCD-A073-911AC08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7A38-36ED-482F-870B-0EA11A65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7771-6C10-4C76-8E99-DBA6401C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BCF75-5A15-450A-876C-E6CC8073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783-770E-4759-BB4D-6B25465F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CE64-D1F3-45F1-B5C3-0883F842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677AD-0EEB-4FF7-82B6-EA9828B3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26E61-51F6-4450-AB60-CC20BCD9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3B40A-42FC-42BD-98B8-1C12C8B8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A461-54A2-4731-8AF4-65AC4653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86FC7-E48E-4F37-A401-9C697E9D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4EB17-4FCE-4251-8C06-26890B4E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F1A70-C0FB-445F-B665-33C8A0A8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98FB8-3E42-444E-AA96-EAD8040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8748E-A4AB-480B-AA9E-373FF625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B0A-4DE6-40E2-926D-5C2E773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A0628-BC12-4AD9-B3D0-9B22EE20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EF19E-157B-412D-B07A-FB843650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1AD46-A4AF-4B6E-8A6D-93D71150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E8EB2-818C-4342-8FE5-FA098997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BF26A-910B-496D-9354-B1B54957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8CF6-1F93-4DCF-93A5-AEBAB291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93935-C190-41E9-BE10-E5089F8C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DF2F0-4016-4349-AD43-E9D4280D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6F37D-C9C8-4C3A-A915-F984A94E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B1E2A-5F96-4750-84DA-50EA236A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758-3B62-4D63-A782-4B1EB15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B12CC-784B-49CD-9D20-2D404C1E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F50C6-2349-476B-9271-C3C8BAA6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7E413-76AF-4C73-B3B9-361C79A6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4AEF8-4F5F-4FD6-B10A-A2CE668F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8E97-D14C-47B9-BEF1-CC9BF860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DFA2D-6F1F-4395-9A36-D43EFCCE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D3C95-0DDD-4EA7-BF52-519229EC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A48C5-C4B0-437F-9CEE-E74B872C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751BD-BBF0-4502-B45A-1D4A8FC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24A05-608E-4BFF-9C82-A624C8DA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073-7AC7-4D32-BD59-C7BA14C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2CD0C-8C78-40C9-ABF2-1096429B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33809-24C5-4F59-B4EE-385A7A31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2342D-EFBE-40A3-8F52-39273BB6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EE4F9-124F-4D73-9F76-2F39D8B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3859B-4711-4D62-BA2C-AF120CC7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4F7B4-6B37-416F-84C0-BF3A1617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FCDB8-CC37-4695-B04E-22122A95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F802B-1F1C-4CBD-854D-4A070355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BDAEE-745B-46D3-ADAB-4742FBD1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BFEC2-B8E5-465A-B266-C72F9DEF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35298-40C2-4D8F-AD49-1BB5E26A055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E6499-89E9-408B-A10A-23D5BA57F47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74E22-16F6-469A-AA43-87BA266BE05B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4CC61-2A1B-4088-846D-0C495A62FF8B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26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328C1-829C-4E2E-BBE6-6ACC314CDB87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2189E-B507-4899-95EB-20FCB325938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84F17-409C-45F9-9869-05991F54CABE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3D12A-35F5-4749-8E8F-A8240B026D39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7A41A-57C1-43F9-9395-F57CD3602F6A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588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640" y="5462640"/>
              <a:ext cx="143316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72E32-C051-4076-9171-941E54298C7D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D824F-9376-47F2-92C3-F34BDCE3AABE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A03FF-AE8C-4D17-AC80-35E4D7D89307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480" y="27288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29073-7412-4286-B1E8-BFF2C98EE89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60B94-70FC-42A5-8982-6C304616499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9D570-13A1-4497-B5FB-8E2810FC46C3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77CE9-6D51-4321-99FE-CB232965CE72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F2C68-24F8-4F11-9D65-E3846F17479E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5DD23-11AA-472C-A2C8-89FAD81E394B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790c"/>
            </a:gs>
            <a:gs pos="100000">
              <a:srgbClr val="a628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1290600" y="3733920"/>
            <a:ext cx="44229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Obrázek 8" descr=""/>
          <p:cNvPicPr/>
          <p:nvPr/>
        </p:nvPicPr>
        <p:blipFill>
          <a:blip r:embed="rId1"/>
          <a:stretch/>
        </p:blipFill>
        <p:spPr>
          <a:xfrm>
            <a:off x="7956720" y="2957400"/>
            <a:ext cx="1083960" cy="10861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0" y="2733840"/>
            <a:ext cx="658008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Trebuchet MS"/>
              </a:rPr>
              <a:t>Klíčové aktivity projektu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7" name="Obrázek 9" descr="W:\PUBLICITA\VIZUÁLNÍ_IDENTITA\na web\OPZ_CB.jpg"/>
          <p:cNvPicPr/>
          <p:nvPr/>
        </p:nvPicPr>
        <p:blipFill>
          <a:blip r:embed="rId2"/>
          <a:stretch/>
        </p:blipFill>
        <p:spPr>
          <a:xfrm>
            <a:off x="3114720" y="115920"/>
            <a:ext cx="2627280" cy="544320"/>
          </a:xfrm>
          <a:prstGeom prst="rect">
            <a:avLst/>
          </a:prstGeom>
          <a:ln w="0">
            <a:noFill/>
          </a:ln>
        </p:spPr>
      </p:pic>
      <p:pic>
        <p:nvPicPr>
          <p:cNvPr id="848" name="Obrázek 7" descr="Obsah obrázku klipart&#10;&#10;Popis vygenerován s vysokou mírou spolehlivosti"/>
          <p:cNvPicPr/>
          <p:nvPr/>
        </p:nvPicPr>
        <p:blipFill>
          <a:blip r:embed="rId3"/>
          <a:stretch/>
        </p:blipFill>
        <p:spPr>
          <a:xfrm>
            <a:off x="6869160" y="2957400"/>
            <a:ext cx="904680" cy="10861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Informační portál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TextovéPole 2"/>
          <p:cNvSpPr/>
          <p:nvPr/>
        </p:nvSpPr>
        <p:spPr>
          <a:xfrm>
            <a:off x="108000" y="2205000"/>
            <a:ext cx="89280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ystém bude složen z těchto částí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Databáze poskytovatelů sociálních služeb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Kontakt na zadavatele sociálních služeb s možností zaslání dotaz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c) Vyhledání sociální služb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d) Důležité odkaz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ystém bude fungovat přes internetové rozhraní a bude přístupný široké veřejnosti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Obrázek 2" descr=""/>
          <p:cNvPicPr/>
          <p:nvPr/>
        </p:nvPicPr>
        <p:blipFill>
          <a:blip r:embed="rId1"/>
          <a:stretch/>
        </p:blipFill>
        <p:spPr>
          <a:xfrm>
            <a:off x="8434440" y="1062000"/>
            <a:ext cx="674640" cy="684360"/>
          </a:xfrm>
          <a:prstGeom prst="rect">
            <a:avLst/>
          </a:prstGeom>
          <a:ln w="0">
            <a:noFill/>
          </a:ln>
        </p:spPr>
      </p:pic>
      <p:pic>
        <p:nvPicPr>
          <p:cNvPr id="869" name="Obdélník 3" descr=""/>
          <p:cNvPicPr/>
          <p:nvPr/>
        </p:nvPicPr>
        <p:blipFill>
          <a:blip r:embed="rId2"/>
          <a:stretch/>
        </p:blipFill>
        <p:spPr>
          <a:xfrm>
            <a:off x="542880" y="2876400"/>
            <a:ext cx="8528040" cy="2122560"/>
          </a:xfrm>
          <a:prstGeom prst="rect">
            <a:avLst/>
          </a:prstGeom>
          <a:ln w="0">
            <a:noFill/>
          </a:ln>
        </p:spPr>
      </p:pic>
      <p:pic>
        <p:nvPicPr>
          <p:cNvPr id="870" name="Obrázek 4" descr="W:\PUBLICITA\VIZUÁLNÍ_IDENTITA\na web\OPZ_CB.jpg"/>
          <p:cNvPicPr/>
          <p:nvPr/>
        </p:nvPicPr>
        <p:blipFill>
          <a:blip r:embed="rId3"/>
          <a:stretch/>
        </p:blipFill>
        <p:spPr>
          <a:xfrm>
            <a:off x="3235320" y="189000"/>
            <a:ext cx="2627280" cy="54288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72" name="Obrázek 7" descr="Obsah obrázku klipart&#10;&#10;Popis vygenerován s vysokou mírou spolehlivosti"/>
          <p:cNvPicPr/>
          <p:nvPr/>
        </p:nvPicPr>
        <p:blipFill>
          <a:blip r:embed="rId4"/>
          <a:stretch/>
        </p:blipFill>
        <p:spPr>
          <a:xfrm>
            <a:off x="7740720" y="1046160"/>
            <a:ext cx="58248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75963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ypracování základních dokumentů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20760" y="2349360"/>
            <a:ext cx="85024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Trebuchet MS"/>
              </a:rPr>
              <a:t>Základní listina komunitního plánování sociálních služeb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Trebuchet MS"/>
              </a:rPr>
              <a:t>Jednací řád ŘS a jednací řád PS 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78920" y="752040"/>
            <a:ext cx="7248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yhodnocení stávajícího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533520" y="2336400"/>
            <a:ext cx="8286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Smyslem bude zjistit jeho aktuálnost a potřebnost sociálních služeb a souvisejících aktivit, které jsou v dokumentu uvedené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ude zmapováno, kolik z plánovaných aktivit bylo uskutečněno a s jakým úspěchem, případně zjištěno, proč k realizaci aktivity nedošlo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Výstupy této aktivity budou sloužit jako jeden z podkladů k vypracování nového SPRSS pro dané území ORP Šternberk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Analýza sociální situac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98900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4 dokument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Sociodemografická analýz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poskytovatelů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potřeb uživatelů sociálních služeb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zdrojů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eřejná setkání a vzdělávání účastníků procesu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TextovéPole 2"/>
          <p:cNvSpPr/>
          <p:nvPr/>
        </p:nvSpPr>
        <p:spPr>
          <a:xfrm>
            <a:off x="0" y="2133720"/>
            <a:ext cx="90360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3 veřejná setkán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Cíl: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) informovat o procesu KPSS širokou veřejnos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) sběr podnětů a připomíne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c) představení výstupů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Vzdělávání účastníků projektu v oblasti KPS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4 vzdělávací semináře pro osoby zapojené do procesu aktualizace komunitního plánu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Účastník semináře obdrží certifikát o absolvování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Řídící skupina projektu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TextovéPole 2"/>
          <p:cNvSpPr/>
          <p:nvPr/>
        </p:nvSpPr>
        <p:spPr>
          <a:xfrm>
            <a:off x="0" y="2205000"/>
            <a:ext cx="90360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V řídící skupině bude zastoupená skupina uživatelů, poskytovatelů a zadavatelů sociálních služeb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ude připomínkovat jednotlivé projektové výstupy a schvalovat jejich finální verz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Na základě výstupů vyhodnocení stávajícího KPSS a z analýzy aktuální sociální situace stanoví hlavní témata, jimiž se bude plánovací proces zabývat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Pracovní skupiny projektu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TextovéPole 2"/>
          <p:cNvSpPr/>
          <p:nvPr/>
        </p:nvSpPr>
        <p:spPr>
          <a:xfrm>
            <a:off x="179280" y="2227320"/>
            <a:ext cx="9036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rebuchet MS"/>
              </a:rPr>
              <a:t>Pracovní skupiny zabývající se problematikou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Seniorů a osob se zdravotním postižením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Rodin, dětí a mládež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Etnických menšin a osob jiného sociokulturního prostřed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Katalog poskytovatelů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TextovéPole 2"/>
          <p:cNvSpPr/>
          <p:nvPr/>
        </p:nvSpPr>
        <p:spPr>
          <a:xfrm>
            <a:off x="108000" y="2205000"/>
            <a:ext cx="8928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V katalogu budou kromě poskytovatelů sociálních služeb uvedené informace i o dalších organizacích působících v sociální oblasti a umožňujících sociální integraci cílovým skupinám projektu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Závěrečná část katalogu bude obsahovat kontaktní telefonní čísla, jako jsou tísňová volání, linky důvěry, krizové linky pro děti a mládež, apod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polečně s katalogem poskytovatelů bude vyroben stručný leták s názvem: Síť pomoci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7640" y="752040"/>
            <a:ext cx="7343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Zpracování Střednědobého plánu rozvoje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TextovéPole 2"/>
          <p:cNvSpPr/>
          <p:nvPr/>
        </p:nvSpPr>
        <p:spPr>
          <a:xfrm>
            <a:off x="114480" y="1916280"/>
            <a:ext cx="89154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Tento dokument bude rozdělen na tři části: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Analytická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výstupy aktivity Analýza sociální situac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trategická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porovnání stávajících sociálních služeb s jejich uživatelskou potřebností, SWOT analýzu, vizi rozvoje sociálních služeb, cíle pro jednotlivé skupiny uživatelů, opatření a aktivity pro naplnění cílů a finanční prostředky na jejich realizac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Implementační čás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postup a navrhované kroky k zajištění implementace komunitního plánu včetně popisu nástrojů ke kontrole a vyhodnocování tohoto dokumen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oučasně bude vypracován tzv. realizační plán na období jednoho rok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4:24:32Z</dcterms:created>
  <dc:creator>CpKP</dc:creator>
  <dc:description/>
  <dc:language>en-US</dc:language>
  <cp:lastModifiedBy>Návrat Bohumil</cp:lastModifiedBy>
  <dcterms:modified xsi:type="dcterms:W3CDTF">2018-02-20T13:35:25Z</dcterms:modified>
  <cp:revision>30</cp:revision>
  <dc:subject/>
  <dc:title>Jednací řád</dc:title>
</cp:coreProperties>
</file>