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442-35FF-4BB9-9E58-D5514D08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650-B4D4-4EAC-A1A2-B7027083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73F78-8CE9-4674-9060-63E6C9EF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6276B-7980-4BED-A56E-EC1246C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532FC-A7CA-438F-B9BA-974BA081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9D583-1195-4F8B-ADE0-015C3C9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17939-2AEC-4502-AF9F-D49A7A8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1149B-4E9C-4324-9845-A6E5100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EF6A1-CF8F-41EA-A2C7-0A2AB93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1EF4F-93FF-410A-9704-A9CE8AA6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B5EBD-57D9-4F84-993C-701B53D1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43E7C-C3A5-4229-831B-FF350052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ABB-E52C-4E50-B920-8F2AD08B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82498-C7BB-4035-B560-2A15F7DA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3BCEA-3F4C-44D6-8AF9-9738439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535F8-6661-48B7-9D74-426923DA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B4728-9C75-4731-B954-369AC8D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C3AD-393B-447E-953D-72B8698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9F999-1FA3-4ACF-97BD-B591994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06E4-2A15-4CCD-B1FF-17FCE47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E061A-33AA-47E9-81A9-6C35790B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41AA4-8429-47E1-8E8F-CB5A7C5E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CD940-3AE1-4735-99F6-9AECE635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38F-C6C3-4045-BC42-8ACC9C37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6BC5F-D915-4DF3-9987-872F820F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6854B-FD5C-4907-8E38-D48EBE15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8B56-6631-454C-A0DF-DE7C2C8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B1D30-2CD8-4FDE-AE9D-30BDCE2D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7540F-B6FD-406A-99B5-7F29E17C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2A9B2-85CC-467C-84A2-D0864CF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8E773-F5BF-40A1-887B-F220446C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0AB8C-17F4-4201-952F-DC38FBE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9B7D-EE82-46B7-8E08-AC69DA7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9A0BB-485F-4026-B042-D0A9360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3FD-E0AC-4266-97A0-936AB1F9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381F2-295D-496F-8CC6-7E63E6DC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64445-3F15-4C83-83F5-7756C035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CFDE7-B90C-4FC7-A2B2-6830561A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0EEC8-8127-4BAC-949A-EC0C918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21D1A-5C6C-4676-AFE6-DAB2B945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B728C-D178-4B4E-978E-B9C78798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B074C-51CF-4653-8AD2-B7D5B71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1DEBE-96BC-4168-9372-AA6361F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70A80-FBB3-4169-A185-7C2B484A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B21A9-5921-4AC2-9872-E1E21B2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4C4-1486-4A98-A073-EB1A193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5F1EB-BEA0-4D46-AA03-DD8923C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51BCC-5C79-4C73-9DBD-DC4DFEC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CEB80-B4A9-403C-B86D-D97BA58C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0A16D-3FCC-41E1-9EF9-EDC78EE7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01B4A-3007-424C-B542-5071B4A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5120F-F78E-40B8-88DB-468345C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DC2D9-CCFD-4577-B3D8-4082DE65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4DD78-B060-4135-9DFA-0C57FB3E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AF1A1-402C-4F20-A363-47FCB88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561E1-473C-45D0-AB63-4D006273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BF8E-713D-48F6-9180-06BEEDF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59E81-15DC-4CE9-8573-5BFE5A9D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41E4E-0A17-4B11-8017-00C3CA0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BE0AF-03E1-4277-A7AA-F97688D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2EB73-4AB8-46F6-9CA5-159024A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7BD38-1E0D-4CCD-AA3B-4B1405F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4FE13-14FC-4228-AA9A-9E96B4DB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65D9D-0224-455C-AF1D-B01A4E3F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B7EB0-F2C8-401F-941C-24D816F0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4C20E-2619-4A02-980B-3B27CB82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8ADF8-F8C1-446D-898A-E2070591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FC8-6F7B-4AE3-B238-0817DE51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16F84-18DA-45BC-9A54-3AF2E55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9BB6D-2E25-4265-AEE1-B97FBD21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CDB1A-0FB0-4979-960C-ADF6C4E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DD423-6394-4D0A-B90F-320311A4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31D64-47CB-4FB9-81B3-09CDBD0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69324A-9A99-42AE-A49D-4882CD6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0D12F-6203-414E-9981-F4A4C61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9CC97-C4C1-4C03-9F39-6C0C50A3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23DEE-FB4E-44DB-97FA-A44278E1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068F4-FE42-4E93-8EF2-6741793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C1C0-B39F-4C6D-B1AF-822B6AE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219C2-EB4C-4927-82A8-4EFD871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B8A9E-4BC0-4C84-BAAE-D50B32D3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92FFE-A2E9-4B5C-826C-5D3B67A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5BC0A-A183-4D08-B780-2862C3E0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170E3-8FE0-4E11-AAD3-1429B49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7BA55-23F5-443D-9018-C33BD0E6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90FC5-E135-4E1B-8BA6-90D3480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D6D26-AA23-4CB3-A7F6-BF5C52A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64DB5-F497-4C20-9318-A0EC1D1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D2E81-6C76-49B6-BD0D-69E1B84B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819C-11B2-4281-B1EC-0F5B13A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7467C-1E26-4505-8AFD-47377507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29010-62E6-462B-BBC7-71159601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71F92-3A19-4169-8460-8F82BAE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A7960-0599-4FBF-A2E5-64551042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E251E-A9C1-42B7-8530-F29FCA51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370E2-FAE1-4C45-8530-DD65688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4F93B-F93B-48E1-A9CB-FCE556A0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04070-6B15-4B67-9054-F220855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C7DCF-67F8-4B59-9941-71BB3F4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0F2F3-E7D1-4AA8-8736-55151B0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6F79-24E7-4D11-AD06-B7E96C34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ADE06-D4A7-4E39-98F8-F4856FB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8BC38-9D79-4ECD-940B-96C3445A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0618F-75ED-4E28-A990-494D7861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CEE7B-4330-40AE-8907-DF41EAF1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69762-4A92-4C89-BF76-8581785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1881A-AA7B-422E-96F8-E9BEB623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36128-4356-456D-837A-14525D9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75C52-D49D-495F-B9A0-68C65D33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DB7CF-ED7C-4587-8704-E6A68200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AA471-FB06-4342-94E8-5ECDB906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58F-A5B2-4DAB-ABD9-36B1DA0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BCA8-47EB-4EF1-830B-BA8EDE6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02083-CF40-47A6-B019-70DC219B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E0527-1CA9-4F28-BC1B-5943235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6697D-73E8-4D8E-B011-82030D71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27408-7562-442A-BAC3-4A20D4E5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3570C-2071-412D-B4E2-29A44E27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6171B-24A9-4F24-8579-A4D5F2F3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E5E9A-6296-4A9C-A9CD-44A8D40C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57981-FEF9-460C-BC7E-F5324D3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00D81-738B-4CB5-B15C-9C4E58F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2A410-73F9-47C0-9FDA-A0FE7064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383-F45C-4840-8609-62E48B6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0A409-2096-430A-85A9-C004C255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84BB4-93F1-40DB-BD29-CD8AACC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6AF9D-4EA9-4DA8-9F76-FC2365D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559A3-0A04-4CFD-9E76-67BDD96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F2FBA-A9C8-404C-BC3B-E96F19FE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A581B-6FF0-455E-B52C-04326C3B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3D5B7-C03C-48BD-9502-C0DED998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4826-F7F8-498D-8628-2B85676F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73D9-BB4C-416E-9D5E-B46F1094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9B3-874A-4E6A-BECC-26E03AF4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D197-6F60-497B-A064-1E11BDFF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5C3D-C69E-4C60-993A-661BAC63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DFCF-FF21-4199-A009-4E3CE1C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71D4-3FBA-4CBC-B195-C6F25408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60A1-BCB1-400A-BA42-0816EC1B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56C-8B80-4E59-8CB4-F9C1E0D2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2E25-6FA1-4C45-8379-671CABE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A373-73E2-4180-BF46-238D5C7D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6A48-14A8-478C-B742-938F43E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AB51-DF42-424E-9C0A-01A2ACCD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CDA1-E8D2-4BE2-80BD-120B6C6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D823-03C5-49B5-9AA1-6D6ADA5E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029B-BCF9-4569-A79A-58B8F2BA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1FB3B-5D76-4C38-98AE-9D6FC2F3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C29F-FF03-4ECD-9C4B-A7E54D9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69FF-229D-4507-9D7C-DB9711E1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D37-4C0E-4EC2-92D1-2F3D84F4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87F2-E8EB-4583-94E6-F9AA8B7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629E-B2CF-4B43-83E7-1EE3CD61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19B1-68D0-454D-88DA-73AFE37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9F2E-9748-4ECF-AE54-DC476BA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F908-3404-4C1B-B274-000F519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74C0-2191-4E91-9CB2-9E366912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4A6B-C55B-4993-B235-AA2E35CC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2ECC-12DF-4820-93B6-D03FA455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D7FD-B3CC-4011-A866-20A5474E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9104-F543-486C-8669-318678A8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67D-68C2-4C98-9F81-DA4A7F4E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C289-0BF8-44F7-9C7D-AE1A11A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AFB3-A995-42B5-BB90-B65F8BB9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CF6B8-4B5B-4B52-B85C-35B50C9E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D378-827D-46C4-8238-9E708718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46A2-4A3E-47A5-B133-CC836BBB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0B70-5DA4-4C41-8126-236BC3E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9721-D6F5-4E8E-A337-CACA858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F4EB3-731E-4D9F-A2F5-FF61791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E906-8EE1-4BD9-9B00-C564A51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ABDF-B0A1-4847-AADA-132AF670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0B6-645B-4053-88DC-969256F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A585-1E9C-4E93-8AA4-8A2E7A3A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B17BB-E47A-4BDB-93D2-8826ABAA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45694-413E-4223-90CA-87DE6DF6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4DE6D-8894-43B5-8D58-04C47FB9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303E-10EA-4EBD-AFEB-B76F848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0C27-4B41-4E3E-B256-3DAE3DC2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E79A-B631-4582-A199-4B174BD6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C4B8-9E0B-495A-820A-152520B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CC9E6-F426-4209-B66B-2BA726F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E26E5-0DFC-4556-80E3-F165417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A43-5062-403A-ABF1-28BA07B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ADC9A-0300-4AD1-A69E-DF924D21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CDFF-77F5-4ECC-9418-D7DB4DB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A0A94-7A26-4531-A5C0-6F721E2A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AB91F-0CF9-4B12-8DC3-C9D07DC4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2617-B442-4C47-932E-E8D0C19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3B2F-74C8-4792-B1D3-4C84F32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4555-7A05-4327-B123-BD2B9134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A9D43-3E8B-41B5-836E-2068718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0E638-A621-4AAE-BBD7-CDC0CEE4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E231-9D5E-485F-94C5-D2F06D0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610-24FC-49A3-836C-BF4706E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1403A-1CCC-4BB1-833D-1B945417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C9FB-5BD0-4520-B806-CCFF494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B0FA5-1294-4932-97DF-269DE1E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FFC6-45EE-4946-B710-904955E6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103C-BB89-4F99-BE5C-92AEA995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C590-8434-473C-BD59-82A42A52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81D0A-8C5B-4E2D-A16E-0FE2345A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5FCE9-E035-419D-8497-39C13B95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8DB8-6F70-42AA-A63A-C2E071C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F3144-4B15-44D1-BDCF-6873782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640-49BD-4BD9-91FC-F566120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D5C2-C2A6-472D-9994-43008F7A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77AF9-B08A-4F95-98AC-AECF0ED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CC480-3B7A-42B3-BCFC-9318EF5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56B3-E04C-4721-925A-F18FA45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053A-6AFA-4A2F-B635-172854F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E74C1-8251-4CEC-BDA5-C21B0358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D366-C453-4851-8FA9-368D9E6D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9677-E203-49B7-89AC-2492540A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3747A-54FE-48B3-9F4B-EE836EEC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BD586-ACE2-4FCD-9E47-0E39D69A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DB15D-909D-4575-97B0-AC523F21949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828A8-8909-4B6A-82B7-962374224D1D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146B0-6D7B-4511-85FE-653CB96364F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DE089-5F77-492F-9AEA-DF15A9F366BA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DB4C3-902E-49EA-B22A-E8D77C2DCEF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134E8-BFEB-4C29-A4F4-48EC34BF9C1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C9897-5A57-4122-A091-B087085870F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58075-EB50-4CBA-B016-AC0ABBF6F57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09259-7B40-471C-99FC-6AB44779F12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4955B-2DF0-40E1-A2EB-CA87E39F06D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02CD0-4AD5-4F5B-A8D0-4E3D3A3CEA12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3B5AF-6248-4237-9B36-B5A965301AF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53036-0584-4CE3-9492-645037428D3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5F3C4-5A64-49F2-BAEA-3E5B05898FD6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B688E-80DD-43BA-9805-565250AE065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DBBE1-2346-449F-ACAF-59A4B05C2E2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A1C5C-23EA-42B7-BA4F-2D72C5C23A4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FEAFF-A5C8-45C6-84B8-F496C220133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77960" y="2257560"/>
            <a:ext cx="49593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rebuchet MS"/>
              </a:rPr>
              <a:t>Jednací řád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290600" y="3462480"/>
            <a:ext cx="44229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acovní skupin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9" name="Obrázek 8" descr=""/>
          <p:cNvPicPr/>
          <p:nvPr/>
        </p:nvPicPr>
        <p:blipFill>
          <a:blip r:embed="rId1"/>
          <a:stretch/>
        </p:blipFill>
        <p:spPr>
          <a:xfrm>
            <a:off x="8016840" y="2919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840" name="Obrázek 5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pic>
        <p:nvPicPr>
          <p:cNvPr id="841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948360" y="2919240"/>
            <a:ext cx="905040" cy="10861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20760" y="2707920"/>
            <a:ext cx="8502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do setkání skupiny svolává, organizuje a řídí, jak často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Kdo je vedoucím pracovní skupiny (jeho práva a povinnosti)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ákladní úkoly P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92648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Jednací řád by měl odpovídat na: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Trebuchet MS"/>
              </a:rPr>
              <a:t>Základní úkoly P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533520" y="2336760"/>
            <a:ext cx="84312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Mapování uživatelských potřeb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Zaměření na cílovou skupinu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Plnění úkolů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Zodpovídání Řídící skupině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1010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Jednací řád by měl odpovídat na: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50560" y="2336400"/>
            <a:ext cx="8569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Rozhodování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Změny jednacího řádu – 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kdo a jak může iniciovat změnu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Informace o jednání P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Informace o jednání P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78920" y="2336400"/>
            <a:ext cx="8713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Hosté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Písemná stanoviska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Zápi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Koordinátor provazuje skupiny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Obrázek 2" descr=""/>
          <p:cNvPicPr/>
          <p:nvPr/>
        </p:nvPicPr>
        <p:blipFill>
          <a:blip r:embed="rId1"/>
          <a:stretch/>
        </p:blipFill>
        <p:spPr>
          <a:xfrm>
            <a:off x="8337600" y="1062000"/>
            <a:ext cx="730080" cy="741240"/>
          </a:xfrm>
          <a:prstGeom prst="rect">
            <a:avLst/>
          </a:prstGeom>
          <a:ln w="0">
            <a:noFill/>
          </a:ln>
        </p:spPr>
      </p:pic>
      <p:pic>
        <p:nvPicPr>
          <p:cNvPr id="852" name="Obdélník 3" descr=""/>
          <p:cNvPicPr/>
          <p:nvPr/>
        </p:nvPicPr>
        <p:blipFill>
          <a:blip r:embed="rId2"/>
          <a:stretch/>
        </p:blipFill>
        <p:spPr>
          <a:xfrm>
            <a:off x="542880" y="2876400"/>
            <a:ext cx="8528040" cy="1105200"/>
          </a:xfrm>
          <a:prstGeom prst="rect">
            <a:avLst/>
          </a:prstGeom>
          <a:ln w="0">
            <a:noFill/>
          </a:ln>
        </p:spPr>
      </p:pic>
      <p:pic>
        <p:nvPicPr>
          <p:cNvPr id="853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5" name="Obrázek 8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29560" y="1062000"/>
            <a:ext cx="608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2:51:13Z</dcterms:modified>
  <cp:revision>19</cp:revision>
  <dc:subject/>
  <dc:title>Jednací řád</dc:title>
</cp:coreProperties>
</file>