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ECA-D521-4464-946E-9398E9E2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4EB-3619-476F-A2D7-F81831FC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DB634-6E32-4645-9DB9-E0EA4374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37AE-A144-42AF-8567-0EBC01A8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303CD-FF69-4C7C-AF1C-E17691C4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F6A4-9AEB-4EBD-8F07-D6482E79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1C91F-B5F2-410A-BEE8-A8BF145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3865C-E579-411F-853B-6854748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8F4FF-F7B3-40A8-87E9-5E59E74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108E-0F27-4496-943F-C5A2B15B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73608-B0F6-49C2-AEB3-100A9254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26769-728E-4DAF-91D2-3C2B797D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DDA-5F8C-41A8-A4E3-91CF2BA7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29F73-DC2E-454F-95DD-C883A607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8EDDE-D295-4016-B5B9-FFA13A5B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5642A-C8A6-42D4-81C3-E9901EA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AD92F-7843-47E5-8350-158118E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EDD41-3AAA-4978-B122-C5569AF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92193-C6D9-41D1-9CE1-8FFAF8C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3B525-5636-4A59-B9A5-3F8A150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3408F-C388-4813-A942-7FFB3BC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41621-8EC7-459D-A62D-731CFAAA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AE745-F5A6-4B58-94C3-AB8336DD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A70-8198-429D-BAFA-3CB5F807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44AB4-FA21-447C-9650-563168D9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A38BB-B11E-4E0D-9502-4A7DE02F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6EAFE-2040-427A-9FE4-53F500E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80EF0-A717-42F0-B836-F6FF2A32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49BF8-4C29-489F-A2B9-9CC4C778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8D3CA-7CC6-46A0-8149-C6A4ADE8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51FC-5EAA-49C0-AB8A-ABC34208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C74C2-F1DD-41E6-A4F9-2F3DE5B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D47E-C93D-453B-BC41-31D8B09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38240-4ADE-4164-B4BC-0DC1D8D4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03E2-A2BC-421F-A0F8-F9DB6417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4329-2106-4827-913A-DE411968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6A7FA-6C4F-4799-8910-C8F343FB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F5F50-B391-4E04-912A-39891F64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D9BCE-ABEC-405E-852C-40AA2B9C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38458-78D2-4B9D-A67D-E708F4F9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B9FF6-304C-4852-8E2A-D8A45393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85479-22CE-43FA-A56D-EA32860F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F27B7-C268-4289-BC1F-C49E2DB6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11D63-EF40-4087-8740-509B5790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97369-4935-4897-BA5C-59621EE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FD09-9DF2-4C33-85F9-8A467181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93A26-A764-4D62-9327-258B7E94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9EA71-40EF-4D7F-8510-64C6515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8D783-4342-4F78-B176-E3DC8FAB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86F6A-7184-4085-91EF-95D5AB0E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1DFF6-69A4-4AA2-A623-39F43E23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06601-7316-486A-BAFE-21F8EF40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F78D5-C74C-4C81-805C-D848E6C9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E5DEF-3272-4F9A-8608-F746CC7D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8C765-9F43-443D-852C-CD21CCF5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E8E51-CFF0-42CA-A9A7-FEC0DA2A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9710-2D12-4980-A1AB-988D15EE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96BBC-07EB-451A-8661-9BBCBD1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8DA30-C416-440C-A527-7B7775F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BC372-ABBE-4B04-9A71-8C093DE7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22E26-EF83-47BE-883B-2EDCC57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274EF-EA41-4B0C-9DBD-CD42EBCC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E918D-CFAE-49B0-9E98-B312E1B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8F2DF-FA18-45FF-9338-2CD97C70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39A31-2E8D-43E8-8581-3C3C6B98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73CAD-E095-4077-A246-C46E91E1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7C480-21EF-40C8-8B21-A41FB6D6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3B46-8DEA-4803-B528-C92D82CE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9E28B-DFA2-4DBF-940A-51DD191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06319-A72A-468B-A8DC-E020C2E7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4B1B6-4A01-44B1-9AEB-611BC99D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E0DD9-8FE1-4BAC-9BE7-E4D9384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906D1-D046-47D6-BCD2-1FBA2EBD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0DA57-D040-4CCF-8D29-E73AFB6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1B9D1-D778-46A4-B354-21D319D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48E89-7DF9-4A20-AC57-FE315455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D2176-CE85-4A73-B498-54A7A6AB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2DDDF-F11A-4F82-B272-613B80AB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DDC2-7852-488F-BBB5-9881AC1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5CCEE-881E-43BD-946D-685CDDA2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F320D-6384-4A5C-A79C-453B4242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DDEB2-DCE5-41F9-B010-88461FA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8F581-95E9-416D-A9C0-B0F60AA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889AC-76FE-42CB-9950-A57C2B5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8BA07-DF48-4524-B20E-06E1272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ED2BD-7B07-4428-9DC0-F105555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73B1A-ACD9-4E04-A922-FF62060D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6EAE5-9E7E-45E8-A41F-85F717E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D910E-0E2E-4065-8C09-8418553E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4E9-1FDB-4AC2-A436-C7583E21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915DA-57BB-45DC-8B91-E26A4E8B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1159B-BDE7-4CA2-BF6A-3EB51570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3F559-E8CB-43A9-9202-EB9EE4E0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89662-CD4B-43DC-B844-013D836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BF64C-6E28-4A69-B876-758AD22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0EFDD-8899-4638-BFAB-8ED06DF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094B1-8CF7-4C99-9CAD-D97032B2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C0975-E324-4BA6-904B-1849D84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0C2E0-F4A9-44DB-9A83-E7C8F08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EA176-A53B-4CE6-9C0F-6F5C736E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5C6C-484E-4F35-A694-FE7E518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86CBD-3405-4C64-BEEB-535C069B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5AA09-788E-4AC5-A2EF-F3AB205F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57BFD-5F82-44A2-ABA4-84FA6266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F70B0-1192-4E10-BD86-0EB18EAC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73F7F-7050-4878-AE49-45F6E075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D00C1-81D8-4FD9-85B9-771F1D65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B3258-DB93-42E9-86CC-2E529D8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2A54E-5814-457C-930D-79CDFF0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4CC5A-3AFE-4889-8BA9-3EF407E4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7622C-81C1-469B-ADE2-724F406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643-7F0B-42F3-A104-BB4DCEA7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128-99D2-4503-98A1-EB35657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6635D-46C1-4180-98C8-9AD1482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8406F-A78E-4490-968F-1177FC73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E342E-E75B-4159-B575-AE8CE77B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61200-DD6F-4E1D-A6C9-E157AF7B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76F69-CEA9-4013-8AB7-8F3B6C66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60657-8070-4235-A053-22ABC991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3C3E4-AC72-4C45-A9C7-AD78FD97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ABC46-2165-4F55-9C4A-9E50DC0A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85037-F05E-4B9D-836C-247CB3ED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CCC11-6EEC-490E-9728-F06BB25D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FCA-48C5-48CC-9D7B-AD1E9917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52575-7166-41AD-9F26-1A5C47C4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A840B-C9A4-4A43-832A-6BDD3752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120E3-37EC-4C19-A2AD-9BAA3CAB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20642-5F97-4F19-8922-87E6AA0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893B7-2F35-4C5A-BB67-AC741C7F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D778F-0E47-449E-95B6-A2E74DD8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2BAAA-6313-4AE4-85BD-7070D804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9FB0-3BC8-46DB-B1B5-4481A37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14F1-33EC-4E40-A23D-50A003E9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6655-0452-44AF-A23C-DDCEE029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5550-71E6-40D7-883C-A7F79C0A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54B8-B50A-4AB3-9CC2-0AE5DF15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3216-4779-4AE4-B92C-FE28059C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FF9E-5BAF-42C5-B7B1-2429041F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35EA-3D3E-444F-897F-E6C2D1C6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028-048E-450F-8DCE-47D2B4F4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AE70-ED72-4AB8-BEB5-9EEFF113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02F7-D484-4A11-813C-974AD957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40C3-0898-4833-B7F6-6783317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146B-E87F-49BC-BD6C-18784F8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D6BA-9AD7-4FAC-AB53-BF486A73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DDB8-FF82-444C-8594-D68858F7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35D4-96A4-45B0-8C09-E525EF4B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ECF9-9280-4A8D-B7AB-5F9C42F6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06E6-E99E-4990-A4A8-AAAEA55B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536B-7BD9-4241-BB3E-47816DEE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E69-2519-4206-9022-9339E48D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8929-9857-4101-99B6-005BB202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72C0-6AEE-4A50-9E23-76FA32E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3E57A-53E0-4C58-9D26-956E7F42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4086-6795-4A1A-909F-8E84B70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E4473-5528-4A11-8D49-F1E194E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B17F-2A58-4554-990A-968D855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8DFB-FBB1-4B33-B6B7-B1689579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C35C-D790-4D63-9B95-45CD2971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7AD6-6B76-403D-B4E8-B2B0E5A9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5171-96B2-41F8-AD2A-6336422F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CC3-D138-48F4-8921-2DE0C71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56756-B324-4FD5-A1FA-5C664176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2E75-AAE5-4DF2-90DC-1CEEE250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88987-422F-4C7B-AB5B-1123002A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DF47-EF0D-4458-9765-BBEDCC0B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AC03-668C-4278-9C8E-322BDB9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26A0-68FE-4B1D-B69A-86F46C9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265B-C2C9-4B91-967B-5461AAD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C6D9-8F25-4226-9BE5-E99CEA82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9174-CFFE-47A9-8594-1C83A176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4659-3BCB-48B1-AD64-1C2FBAD9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3A6-7AB4-4DC7-9832-2D80C489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2F71B-5305-4439-99E0-E7C34896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6E3B8-D446-4CA9-8D73-8BF37D41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AD67C-F2AC-4BD4-933F-2274FC00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957F8-E7BF-4023-A02B-1276A15A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C6C2-9AA3-42D3-8360-344EC92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DE57B-E3D2-40FD-91A4-36F7782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38A6C-61AF-4076-99A2-A351C1F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6FE9-7ECE-4AA8-99C2-15D514D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C380-5F64-4CD3-A4BC-210A2109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3EDC-9D7A-4307-A9A4-93B10CC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D38-EF65-477B-856F-779B7952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3E79-2E37-4C87-899F-B3A33F80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3E9AC-3A78-4BC4-B908-4BB1E636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57325-97A8-4DDC-A926-E3581EE2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067F9-B5F4-4C8E-B843-ACA9DCA8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93669-F25C-4383-889B-2EBAA7C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88FA-A853-4D52-B46E-FC1AD894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4C0CB-DFAA-4B77-A825-79912638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F0E1-AE12-4B72-8D1A-1549297F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B3FE8-7120-4DA3-BFEA-5CDA5D1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BF7CA-56E5-4EFD-8E21-752874D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F4C-5D54-4974-822E-26CB5DC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D0CB2-73C0-4C9B-BA9F-899C6D9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A3136-00B6-456D-B7D2-5EA20BE8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1601D-9D49-4022-9C68-54A5BC86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EAA13-10A6-44D1-907A-FF044D16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FB03-DE4C-45FD-9028-55A3622D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28519-B081-4288-AB08-2E3528B1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5419-D11E-482A-B654-00F4FBF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D76BD-DAF4-4322-8B7C-F62ACA6F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4D9F-DBF9-4C77-8DB2-D9EF17C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0F9D2-7BAA-43F2-9E7C-AD037CEA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777-D8F6-44D1-BEE6-FF4C7F9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6FA8F-9C2A-4149-9B4C-3A374745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58D32-8886-416B-8D67-EE5E102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E6A78-28D4-46B7-A05B-81F3367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8ADB0-CACB-4018-BDEE-203D5B6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0DFE9-C828-4320-81EC-7AB027C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8BE53-B9E0-4A2D-81AE-ED203AB1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FC6F-7ABB-4344-9B43-F5A5C0F0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8F143-888E-40AF-A588-8F6CDBB1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C733F-1374-49DB-9952-D93FEE34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879E9-80A1-4D3C-82C3-F5F957EF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FA611-5D17-418E-9809-82BE8883EBA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A71D9-23C1-4AF2-8045-9DD5F4657CC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08D88-9680-47FA-80F2-B4E89F79D0D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EDBCC-3465-4B97-B4B1-952B977C3A4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1293F-E2D3-4FA0-87E2-28512C1ABAE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A2890-CA95-4E31-A891-ACA703707E55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B7C6A-F92A-45D8-A579-295C6387732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135C2-50D8-4582-B656-1C206765F02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47F92-0020-413D-9B13-804F86D8C3A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F4611-0519-48B5-8185-531D9D75CDE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770DE-AB5C-41A1-9357-EBB8866CF3A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E1B45-7396-4C51-8B06-2683F5FC1BB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F651C-FC39-4181-A877-A51315F9708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89E2B-F901-4440-B438-DCC58795E3D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3DCBB-CEA1-441C-BD5D-C29F9A6CD5F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4C8ED-E862-4E18-A98F-8DDDBC43141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3091C-9633-4D7A-88EF-8EBEECFEE10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425FB-D7B0-47F4-A7B1-DCB81C024D8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77960" y="2257560"/>
            <a:ext cx="49593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rebuchet MS"/>
              </a:rPr>
              <a:t>Jednací řád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290600" y="3462480"/>
            <a:ext cx="44229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acovní skupin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9" name="Obrázek 8" descr=""/>
          <p:cNvPicPr/>
          <p:nvPr/>
        </p:nvPicPr>
        <p:blipFill>
          <a:blip r:embed="rId1"/>
          <a:stretch/>
        </p:blipFill>
        <p:spPr>
          <a:xfrm>
            <a:off x="8016840" y="2919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840" name="Obrázek 5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pic>
        <p:nvPicPr>
          <p:cNvPr id="841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948360" y="2919240"/>
            <a:ext cx="905040" cy="10861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20760" y="2707920"/>
            <a:ext cx="8502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do setkání skupiny svolává, organizuje a řídí, jak často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do je vedoucím pracovní skupiny (jeho práva a povinnosti)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ákladní úkoly P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92648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Jednací řád by měl odpovídat na: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Trebuchet MS"/>
              </a:rPr>
              <a:t>Základní úkoly P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33520" y="2336760"/>
            <a:ext cx="84312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Mapování uživatelských potřeb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Zaměření na cílovou skupinu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Plnění úkolů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Zodpovídání Řídící skupině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1010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Jednací řád by měl odpovídat na: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50560" y="2336400"/>
            <a:ext cx="8569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Rozhodování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Změny jednacího řádu – 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kdo a jak může iniciovat změnu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Informace o jednání P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Informace o jednání P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78920" y="2336400"/>
            <a:ext cx="8713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Hosté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Písemná stanoviska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Zápi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Koordinátor provazuje skupiny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Obrázek 2" descr=""/>
          <p:cNvPicPr/>
          <p:nvPr/>
        </p:nvPicPr>
        <p:blipFill>
          <a:blip r:embed="rId1"/>
          <a:stretch/>
        </p:blipFill>
        <p:spPr>
          <a:xfrm>
            <a:off x="8337600" y="1062000"/>
            <a:ext cx="730080" cy="741240"/>
          </a:xfrm>
          <a:prstGeom prst="rect">
            <a:avLst/>
          </a:prstGeom>
          <a:ln w="0">
            <a:noFill/>
          </a:ln>
        </p:spPr>
      </p:pic>
      <p:pic>
        <p:nvPicPr>
          <p:cNvPr id="852" name="Obdélník 3" descr=""/>
          <p:cNvPicPr/>
          <p:nvPr/>
        </p:nvPicPr>
        <p:blipFill>
          <a:blip r:embed="rId2"/>
          <a:stretch/>
        </p:blipFill>
        <p:spPr>
          <a:xfrm>
            <a:off x="542880" y="2876400"/>
            <a:ext cx="8528040" cy="1105200"/>
          </a:xfrm>
          <a:prstGeom prst="rect">
            <a:avLst/>
          </a:prstGeom>
          <a:ln w="0">
            <a:noFill/>
          </a:ln>
        </p:spPr>
      </p:pic>
      <p:pic>
        <p:nvPicPr>
          <p:cNvPr id="853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5" name="Obrázek 8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29560" y="1062000"/>
            <a:ext cx="608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2:51:13Z</dcterms:modified>
  <cp:revision>19</cp:revision>
  <dc:subject/>
  <dc:title>Jednací řád</dc:title>
</cp:coreProperties>
</file>