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0CB5-21A2-4FF3-95E1-AFDA4DEB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5CC-6124-4C48-B439-4E9064F6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8E291-7D81-43AB-A8C4-D9169C35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B4368-2597-4012-9749-E5AA459E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C0CB9-DFCC-47E0-90C2-F7AEBF09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99211-DDAF-48AF-A4BA-014DAC9C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67A3E-3897-49EB-8B77-731E2F50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A827D-1C3B-49C0-B0C0-5A464DA8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D9027-311D-4576-BB9B-5591A223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3EB76-1296-4A51-9EA8-4527CFBC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52B53-A795-42E3-B040-D3302BEF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0ECFA-28FA-4FB0-AE32-7A699778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1EF7-EB6B-4CA4-A7E8-56FC3A78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3FC28-0833-409A-A706-F6BC19CB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AFCE2-82FD-41AB-9009-DDA469FF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E9284-BBE0-425F-91A7-22352C94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C2111-1EB3-4D1C-BE10-5EB226B3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3B262-5D3A-44AE-BDCF-DABF43DE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4C814-DCC0-4AA2-A567-3501A65A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93F3B-38FF-4979-A170-E7E7AB82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E48C4-0365-4FBB-95B1-6C97EE51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9129B-FB19-4DA7-84F4-EFE18E9B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397B2-D783-4091-9E63-6156C0F8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7AA-22E8-4A35-AEE0-FCAA8736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A14DE-CA69-4B68-89D8-AE42989C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4C023-95D0-4436-B9F8-FB0BBDFC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DA3DE-58FD-4109-80F3-BB525A9B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B24C1-C474-44ED-86DA-A2E28734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F29DA-16EF-469E-AEAC-E6964EFA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CD977-2910-4E17-A0A2-E4E7DF64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A6FAF-5EAC-4FC3-9D25-9195A596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081AA-7601-4BF5-A117-6ED78F88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7E4B3-F33C-44C9-83A8-E8E51911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62897-109D-4DF2-855A-3B2344E2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03A2-112B-4D40-A80E-F86233B9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76A20-8CEB-417C-9E4B-DB269A76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38779-66C9-4CAD-963D-85501EE2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F8496-27EA-4DB2-B2CD-CBE980AE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695C1-595B-4C19-8462-E9452D6B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925CA-2EB5-4997-A1A3-7CB4E037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F7E3D-CE00-47AF-AA26-84A689B8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20A50-CC74-4F17-BA99-59358D59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18ACC-EBD4-4EFB-A4FF-37826B8C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60C67-7CE2-40CA-A6AD-44690778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9431C-728E-4445-B700-81CE93A9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D92B-1C63-42F1-9D84-C45BBDF5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1A4DD-0299-451C-95C5-F81554DD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9E3B7-38A8-4A24-A105-13517419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BF5B3-D7B1-4A82-A830-A422077B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DD0B5-B0D3-4EF1-8F31-74BF82A2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8BC9B-C5C8-446C-ADB0-BFE791A3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1E29C0-7336-415F-B742-7377F6C0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29952-2FAF-40A4-83D5-5C03B08A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B31BE4-B1EB-401B-8B49-C3DC4F48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3BE7DF-3E0D-474D-96BE-3A83EE8D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A4211-8993-47A9-A16A-BDC10DB0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7CB9-275D-4F39-B1E1-F405B4EE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9A1C3-57B2-4AA5-BB6E-6C58D0A9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9536E-3564-4551-AD5F-E8B470C0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E14F5D-E774-4057-8B3E-E33B88DD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6CED2-F740-493A-BF5B-B924E4A1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771A1-F9F3-41A9-B985-CA086C41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18B12C-6848-4F7A-9F26-5FF70804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D8785-0217-419B-8823-A9D0A4BB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F3BBD9-8D06-4DEC-BECB-BF416F5F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C8AFF0-76A6-438C-BA7A-FAF8DD19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828E1E-D41B-4BC1-BF5E-352B5E88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710D-6129-437E-B729-3B513731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8758E0-078B-4D0C-A61C-0A441976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8B3AB-C864-41E9-8ACE-160133A0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DD0917-B5F4-45BB-9D74-ED60D8E5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419967-81BF-4E7C-95B3-A6A93E2E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DB121D-4C49-4037-B1CA-8C9A6C58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194C5E-3925-4C5C-8B16-C2879818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CF6355-E309-4AFA-9085-ACDA477A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527D3F-97BA-4A74-940B-26B43B86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81BCF-16F1-4017-BA5C-059DA9FC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252B2E-87B7-406E-BF15-C9B5BA0E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C2B5-D8A0-4770-9161-6E9EDD0E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E14FBB-3045-4719-8079-EC481312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F679DF-AB3F-457A-8E4F-7C0ABED2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D689AB-8A6F-4060-9A46-7F762E8B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9C69E3-190B-4928-B068-379D9F08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DCC7E0-E82C-4AE1-AD92-BC676AF1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0E932-5F4D-4164-8560-99F9668F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A1CC22-1C6F-4A4C-872A-6C747A49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8AFC8D-D490-4593-89A9-DE173449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25D2CE-5DD3-4766-885A-51281ACE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B91AC2-E715-40E0-A56D-6027527A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F3DD-FA5E-4648-96E4-FFED83AA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A4544F-28C6-4763-A3F5-CEC697F1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641093-2954-4D26-8CA6-2DB83A65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7AF81-D061-4996-BFD5-7AAA9496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8ADD92-D890-4B19-A0E1-CC51E1FF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4879AF-3E3D-4496-9053-5939D1AB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B3BB4D-848E-40EA-A65F-5C02D268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45FE60-2E9F-4C9B-856D-3E642086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C5AF10-E182-4C0F-BC1C-8C376470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282FE1-21C3-4218-950E-5ABD2F46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164FCD-B264-4C0E-9BFA-EC4A61A2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BF12-6320-420F-B2DD-66EE985B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33BA13-213F-4404-A622-78E53908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1EFD55-BB52-4DF3-96DF-1D6F1EEA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609EEE-D721-4C45-876F-7E9D3DFB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C94FC7-2BB8-4F1E-AAC6-86C5BDA2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5848A3-846F-498B-AB73-353CB843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B378EA-84B0-49D6-A064-7825E631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048B1A-EC13-475C-9B22-94C2BF67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6E89AF-A1D9-4786-B9D8-4D4D1C08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B1C4D0-E519-46D2-8EBD-DC6DFA77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3C3A58-CFF9-40EF-848E-927E48B4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75B5-9B5F-4075-A941-B29FDEAB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5C3D-B070-453B-A999-424A2E6A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6CC40D-8F97-4511-8EC1-6198DFBC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8242B3-D163-4B3E-A6D4-98439CAB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A92EF7-A30E-40FF-87B3-DA883B0C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956A02-8914-476C-A1FF-E42AE186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20FD45-BA51-4A35-81D3-19135198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298EDC-1B4A-40BD-80D7-C2F82A5F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34F0A6-BF75-4C9A-BD82-2F420066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4B4521-2687-43EC-8580-F213CC20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8CEB1C-B59E-40D1-909E-BFB2C678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BF40B8-5ADE-495A-8426-4E2AA882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C49E-7B82-4F31-8A75-3B8774E3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B865DC-1A2C-4720-93AD-AC3F57D9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088F1E-B77D-4E5B-8D79-2DEDE2EB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8F3FBB-457D-436F-AFA0-9A6EACC2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417B8C-C418-4EF1-B5AA-795E7F52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8F2AD3-F101-44B8-B295-48967F81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D49B9D-35A4-467B-935D-989F7D9F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EAC181-D948-40D1-9B09-67537456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D4E6-6575-43CF-A0C8-5DBB6628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06D3-962C-4BEB-BA0C-8E463C72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7428-3CAD-4658-993E-6988AA82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4714B-EC88-4667-9898-680CA33B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44798-F784-4E5B-B83B-FD1E37F5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F44C7-5FD1-4E5C-8DEE-91F0A2F4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0F52D-2F9D-43B6-A653-6D5025E0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DA081-5FD3-4061-A036-11DBB63C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1F9-B3B9-4983-B611-D430CE8B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58C29-E110-4026-9D19-DD58833B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D050C-65EA-40C1-A20F-F7F038AD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51B52-5B21-403C-ADC4-EE6062C4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EFD66-84F1-4643-AF29-0B0F4F65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AF536-9C9D-4976-9AF4-0312C303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D2EFA-A561-44E8-9E5C-9BAFC3CB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2F7E6-D67B-438E-87AD-05A9A44C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F36C7-5EE5-4BAA-A9EB-4E57A784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53C0B-2C70-4F92-A11E-704A332D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E7BF1-5A48-4FE8-89CD-5AF9868C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4CC5-9BD4-4B13-9DFE-57974879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BD775-7687-44F4-A72A-B7F19738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FF2F7-62A2-400A-9CEC-AD23E199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08338-1115-4AB7-A3A9-D114F6A7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7354D-1CD1-4DCF-9A71-32326EF6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7F584-DABB-4EBB-B3D6-F79F9A86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0CC1D-FCB4-4448-85D5-85348116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C6932-AEFE-43BE-B418-E325AE6D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387E9-13D1-4A88-A8FD-D75B3D89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77EFC-3051-4449-ADFC-69250FCE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A987C-75AD-41EE-AD2A-1826BF5B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14BC-CA13-44B1-889A-8CEC2C82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31C12-B04A-43CA-9D31-437FECBB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1FCEB-E92A-407C-BA16-9A1ADFB4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56539-AC32-4549-817C-B39EC4F3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5D280-93C1-4433-8B7F-B32E4D88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ED889-5932-4E2D-AB82-FAF31184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0836F-885B-4FC1-954B-DE8B1C8D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D0AC5-7130-4655-8B31-368EB454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E5E8B-C32E-48DC-A930-74EE3173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48BC1-8380-4401-B703-E4431ACC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3D66E-7123-41AD-82DE-B144EFE3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6A03-CB2F-41D8-87F8-27ED5D0D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2679D-8335-4CC8-B132-9CED32CE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16643-F7ED-4A5B-95A1-42F52B5A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29D13-9539-4D96-80AC-C21F5DAE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E025A-F54D-4CC3-8E1A-E56A8E92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47835-C907-4F96-86AF-F2B7F3A8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1A36B-3357-40D0-88A0-BEDE04B5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812DD-7588-4289-8F32-AD640149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8BACC-1A20-44E1-9FA7-4CA7AECD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99557-393E-4782-8751-80C5268B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8B495-5097-4F06-8F81-3E922FF7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D61D-D77F-4561-BF25-1482ADB2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11967-4D34-49B9-9CD8-E31B9763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5FC89-D02D-4B7D-85F7-712A5E52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A0821-8B69-4429-B300-32763BF7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EF6C3-8747-47C3-BA9D-54A5B55C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65AA0-0C97-4354-8F11-9AEAA58C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130AC-CC66-414A-AC16-C1BF130F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67793-301F-401F-8A4E-4AE9EDE1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DC901-8B19-42D3-AD5D-456A0838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54C4C-E708-4604-92EA-D40BC60D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5395A-A4FD-4FC1-AA00-B51ACFDB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ABCD-98E5-44B7-8CE4-94FCEB61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966E6-7CB0-4B28-95CF-6FDE28A3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B90D8-2056-45F6-8506-79557D55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E2F3F-4AFA-439C-BF8A-A0DC7BA5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F7E80-A090-47C0-B86D-DC038B65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F1D94-31C7-40A5-9993-115FA13E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C2F74-B37E-4670-AD09-EC11492D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529E6-5BAB-4BDF-8F1B-0BDA4C25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C86F4-E033-4053-83DF-7BDFF785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2AFD1-8932-41FC-B2DE-CB42C00A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5855C-917E-4D0B-A636-844668A5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B90-0BF8-41FB-BAF1-38980A9A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187D3-280E-46A4-B698-97D5F99E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C90FD-6C64-49C3-8742-C4FF5C81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B1426-9FC2-4B59-BF33-26EC62B4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9B52F-1C56-4BB1-B6F5-279E4A1A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D6044-5523-4B0D-9B93-BD67200E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34A9D-EDC2-423F-9164-B2E1805B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FF7F6-65BD-4102-94F7-6A49BBB0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72B00-847C-4765-85EF-FECE18D3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1CB99-A691-4DA7-AB7D-CC77A1B9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601D2-B78B-4DD3-B1EC-3B18C59A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02F04-4A3C-49F9-8220-FF93E44A2962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16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1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77FA8-9A62-4CE1-A291-160C1A2B7F41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19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6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25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66" name="Rectangle 26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50609D-C2EF-43EE-9DFC-DF40E23CE9CC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20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10" name="Picture 21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22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Rectangle 23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13" name="Rectangle 24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EE31F-42A6-4DBA-8558-EDC69BA19886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28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57" name="Picture 29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30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31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0" name="Rectangle 32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61" name="TextBox 26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TextBox 27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D193D-ED99-4E94-9BE7-FDCA5EC2D34C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21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06" name="Picture 22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23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24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9" name="Rectangle 25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F8642-A313-4154-8FB8-E677EDA50A39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22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5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25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6" name="Rectangle 26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D49C9-96CD-4A30-BFBF-E4F9EC54343A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33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00" name="Picture 34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35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36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03" name="Rectangle 37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A9C2E-1D82-4855-BF61-7B27FE73BD60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15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47" name="Picture 16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17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Rectangle 18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50" name="Rectangle 19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A0A2F-7DC1-4AE9-AF67-CD433BDE487B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13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794" name="Rectangle 11"/>
            <p:cNvSpPr/>
            <p:nvPr/>
          </p:nvSpPr>
          <p:spPr>
            <a:xfrm rot="5400000">
              <a:off x="5362920" y="1959480"/>
              <a:ext cx="528588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95" name="Rectangle 12"/>
            <p:cNvSpPr/>
            <p:nvPr/>
          </p:nvSpPr>
          <p:spPr>
            <a:xfrm rot="5400000">
              <a:off x="7289640" y="5462640"/>
              <a:ext cx="143316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0F604-3243-4B17-8653-4BCAC2C1D13D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D6AB5-0400-4593-813C-A065294C76BE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2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0" name="Picture 2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2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3" name="Rectangle 3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64CA7-CF82-4684-857A-42C244EEFF92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37" name="Picture 1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20"/>
            <p:cNvSpPr/>
            <p:nvPr/>
          </p:nvSpPr>
          <p:spPr>
            <a:xfrm>
              <a:off x="0" y="27288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40" name="Rectangle 21"/>
            <p:cNvSpPr/>
            <p:nvPr/>
          </p:nvSpPr>
          <p:spPr>
            <a:xfrm>
              <a:off x="7710480" y="27288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9A547-0186-44E5-AD35-6F74A08DC1D6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4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F27F1-0F57-4812-8303-24723145B2BF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2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1" name="Picture 2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2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30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B6EE6-2211-4932-9A25-4FEBB5BF68A8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4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78" name="Picture 15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16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17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BD806-0C9C-47CC-8948-6051BF857F3A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3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97BFC-8032-4672-A59C-9CF68110EBFF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9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72" name="Rectangle 2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BB8F5-12D8-442A-ACA7-4C930EC363AB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790c"/>
            </a:gs>
            <a:gs pos="100000">
              <a:srgbClr val="a628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-360" y="2460600"/>
            <a:ext cx="622764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ff"/>
                </a:solidFill>
                <a:latin typeface="Trebuchet MS"/>
              </a:rPr>
              <a:t>Základní Listina</a:t>
            </a:r>
            <a:endParaRPr b="0" lang="en-US" sz="6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1290600" y="3733920"/>
            <a:ext cx="44229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39" name="Obrázek 8" descr=""/>
          <p:cNvPicPr/>
          <p:nvPr/>
        </p:nvPicPr>
        <p:blipFill>
          <a:blip r:embed="rId1"/>
          <a:stretch/>
        </p:blipFill>
        <p:spPr>
          <a:xfrm>
            <a:off x="7956720" y="2957400"/>
            <a:ext cx="1083960" cy="1086120"/>
          </a:xfrm>
          <a:prstGeom prst="rect">
            <a:avLst/>
          </a:prstGeom>
          <a:ln w="0">
            <a:noFill/>
          </a:ln>
        </p:spPr>
      </p:pic>
      <p:pic>
        <p:nvPicPr>
          <p:cNvPr id="840" name="Obrázek 5" descr="W:\PUBLICITA\VIZUÁLNÍ_IDENTITA\na web\OPZ_CB.jpg"/>
          <p:cNvPicPr/>
          <p:nvPr/>
        </p:nvPicPr>
        <p:blipFill>
          <a:blip r:embed="rId2"/>
          <a:stretch/>
        </p:blipFill>
        <p:spPr>
          <a:xfrm>
            <a:off x="3235320" y="189000"/>
            <a:ext cx="2627280" cy="542880"/>
          </a:xfrm>
          <a:prstGeom prst="rect">
            <a:avLst/>
          </a:prstGeom>
          <a:ln w="0">
            <a:noFill/>
          </a:ln>
        </p:spPr>
      </p:pic>
      <p:pic>
        <p:nvPicPr>
          <p:cNvPr id="841" name="Obrázek 7" descr="Obsah obrázku klipart&#10;&#10;Popis vygenerován s vysokou mírou spolehlivosti"/>
          <p:cNvPicPr/>
          <p:nvPr/>
        </p:nvPicPr>
        <p:blipFill>
          <a:blip r:embed="rId3"/>
          <a:stretch/>
        </p:blipFill>
        <p:spPr>
          <a:xfrm>
            <a:off x="6929280" y="2957400"/>
            <a:ext cx="905040" cy="10861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1"/>
          <p:cNvSpPr/>
          <p:nvPr/>
        </p:nvSpPr>
        <p:spPr>
          <a:xfrm>
            <a:off x="774720" y="6095160"/>
            <a:ext cx="778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Projekt: </a:t>
            </a:r>
            <a:r>
              <a:rPr b="1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„Aktualizace procesu komunitního plánování sociálních služeb v ORP Šternberk“,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reg. číslo CZ.03.2.63/0.0/0.0/16_063/0006558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Tento projekt je financován z prostředků ESF prostřednictvím Operačního programu Zaměstnanost a státního rozpočtu ČR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07640" y="752040"/>
            <a:ext cx="7319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Základní listina KPSS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20280" y="2420640"/>
            <a:ext cx="85028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rebuchet MS"/>
              </a:rPr>
              <a:t>Slouží k vymezení pravidel, kterými se proces KPSS řídí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rebuchet MS"/>
              </a:rPr>
              <a:t>Je to veřejný dokument, ke kterému se závazně hlásí všichni účastníci KPSS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78920" y="752040"/>
            <a:ext cx="7248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rebuchet MS"/>
              </a:rPr>
              <a:t>Vymezení KPSS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213840" y="2349360"/>
            <a:ext cx="89298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Co je to KPS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Oblast KP  - sociální služby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Působnost KPS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Účastníci KPS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ff"/>
                </a:solidFill>
                <a:latin typeface="Trebuchet MS"/>
              </a:rPr>
              <a:t>Cíle KPSS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8" name="TextovéPole 2"/>
          <p:cNvSpPr/>
          <p:nvPr/>
        </p:nvSpPr>
        <p:spPr>
          <a:xfrm>
            <a:off x="395280" y="1844640"/>
            <a:ext cx="856944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rebuchet MS"/>
              </a:rPr>
              <a:t>Vytvořit jednotný kvalitní systém sociálních služeb, který bude dostupný, bude odpovídat potřebám občanů a bude pružně reagovat na změny jejich potřeb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rebuchet MS"/>
              </a:rPr>
              <a:t>Umožnit občanům podílet se na rozvoji sociálních služeb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rebuchet MS"/>
              </a:rPr>
              <a:t>Zajistit efektivní ekonomické plánování sociálních služeb a vytvořit rovné podmínky pro všechny poskytovatele těchto služeb s cílem co nejlépe využívat dostupné zdroje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rebuchet MS"/>
              </a:rPr>
              <a:t>Vytvářet a předkládat ke schválení Plán rozvoje sociálních služeb v ORP Šternberk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rebuchet MS"/>
              </a:rPr>
              <a:t>Principy KPS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0" name="TextovéPole 2"/>
          <p:cNvSpPr/>
          <p:nvPr/>
        </p:nvSpPr>
        <p:spPr>
          <a:xfrm>
            <a:off x="250920" y="2205000"/>
            <a:ext cx="864216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Posílení principů otevřené občanské společnosti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Bez dohody není KPS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Vše je veřejné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Bez uživatelů není KPS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KPSS je živý a cyklický proc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KPSS je proces orientovaný na kvalitu a efektivitu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Organizační struktura KPS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2" name="TextovéPole 2"/>
          <p:cNvSpPr/>
          <p:nvPr/>
        </p:nvSpPr>
        <p:spPr>
          <a:xfrm>
            <a:off x="250920" y="2133720"/>
            <a:ext cx="871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Řídící orgán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rebuchet MS"/>
              </a:rPr>
              <a:t>Řídící skupin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- úzce spolupracuje s rovinou odbornou, zastoupenou Pracovními skupinami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Nejvyššími orgány procesů KPSS jsou Veřejná setkání účastníků KPSS, Rada města Šternberk a Zastupitelstvo města Šternberk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Organizační struktura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4" name="TextovéPole 2"/>
          <p:cNvSpPr/>
          <p:nvPr/>
        </p:nvSpPr>
        <p:spPr>
          <a:xfrm>
            <a:off x="179280" y="2205000"/>
            <a:ext cx="89647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Odpovědné osoby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rebuchet MS"/>
              </a:rPr>
              <a:t>Centrum pro komunitní práci východní Morava</a:t>
            </a: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 (zpracovatel komunitního plánování), odpovědná osoba, která projekt řídí a je pověřená jednat za zpracovatele: Mgr. Gabriela Fellingerová, ředitelka místního zastoupení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rebuchet MS"/>
              </a:rPr>
              <a:t>Město Šternberk </a:t>
            </a: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(partner projektu), odpovědná osoba: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Ing. Jitka Zajacová, vedoucí Odboru sociálních věcí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0" y="752040"/>
            <a:ext cx="7524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Provádění změn a doplňování ZL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6" name="TextovéPole 2"/>
          <p:cNvSpPr/>
          <p:nvPr/>
        </p:nvSpPr>
        <p:spPr>
          <a:xfrm>
            <a:off x="108000" y="1916280"/>
            <a:ext cx="9036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Návrh změn, včetně zdůvodnění, může podat kterýkoli účastník KPSS na adresu Města Šternberk, </a:t>
            </a:r>
            <a:r>
              <a:rPr b="0" i="1" lang="cs-CZ" sz="2400" spc="-1" strike="noStrike">
                <a:solidFill>
                  <a:srgbClr val="ffffff"/>
                </a:solidFill>
                <a:latin typeface="Trebuchet MS"/>
              </a:rPr>
              <a:t>Horní náměstí 16, 785 01 Šternberk, nebo na e-mail: marcela.porvaznikova@cpkp.cz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Základní listina může být doplňována i dalšími dokumenty, kterými mohou být jednací řády a metodiky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Změny a doplnění musejí být projednány a schváleny Řídící skupinou procesu KPSS a musejí být zveřejněny v písemné formě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Obrázek 2" descr=""/>
          <p:cNvPicPr/>
          <p:nvPr/>
        </p:nvPicPr>
        <p:blipFill>
          <a:blip r:embed="rId1"/>
          <a:stretch/>
        </p:blipFill>
        <p:spPr>
          <a:xfrm>
            <a:off x="8388360" y="981000"/>
            <a:ext cx="717480" cy="727200"/>
          </a:xfrm>
          <a:prstGeom prst="rect">
            <a:avLst/>
          </a:prstGeom>
          <a:ln w="0">
            <a:noFill/>
          </a:ln>
        </p:spPr>
      </p:pic>
      <p:pic>
        <p:nvPicPr>
          <p:cNvPr id="858" name="Obdélník 3" descr=""/>
          <p:cNvPicPr/>
          <p:nvPr/>
        </p:nvPicPr>
        <p:blipFill>
          <a:blip r:embed="rId2"/>
          <a:stretch/>
        </p:blipFill>
        <p:spPr>
          <a:xfrm>
            <a:off x="652320" y="2792520"/>
            <a:ext cx="8528040" cy="1109520"/>
          </a:xfrm>
          <a:prstGeom prst="rect">
            <a:avLst/>
          </a:prstGeom>
          <a:ln w="0">
            <a:noFill/>
          </a:ln>
        </p:spPr>
      </p:pic>
      <p:pic>
        <p:nvPicPr>
          <p:cNvPr id="859" name="Obrázek 4" descr="W:\PUBLICITA\VIZUÁLNÍ_IDENTITA\na web\OPZ_CB.jpg"/>
          <p:cNvPicPr/>
          <p:nvPr/>
        </p:nvPicPr>
        <p:blipFill>
          <a:blip r:embed="rId3"/>
          <a:stretch/>
        </p:blipFill>
        <p:spPr>
          <a:xfrm>
            <a:off x="3346560" y="106200"/>
            <a:ext cx="2627280" cy="544680"/>
          </a:xfrm>
          <a:prstGeom prst="rect">
            <a:avLst/>
          </a:prstGeom>
          <a:ln w="0">
            <a:noFill/>
          </a:ln>
        </p:spPr>
      </p:pic>
      <p:sp>
        <p:nvSpPr>
          <p:cNvPr id="860" name="Rectangle 1"/>
          <p:cNvSpPr/>
          <p:nvPr/>
        </p:nvSpPr>
        <p:spPr>
          <a:xfrm>
            <a:off x="774720" y="6095160"/>
            <a:ext cx="778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Projekt: </a:t>
            </a:r>
            <a:r>
              <a:rPr b="1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„Aktualizace procesu komunitního plánování sociálních služeb v ORP Šternberk“,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reg. číslo CZ.03.2.63/0.0/0.0/16_063/0006558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Tento projekt je financován z prostředků ESF prostřednictvím Operačního programu Zaměstnanost a státního rozpočtu ČR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61" name="Obrázek 7" descr="Obsah obrázku klipart&#10;&#10;Popis vygenerován s vysokou mírou spolehlivosti"/>
          <p:cNvPicPr/>
          <p:nvPr/>
        </p:nvPicPr>
        <p:blipFill>
          <a:blip r:embed="rId4"/>
          <a:stretch/>
        </p:blipFill>
        <p:spPr>
          <a:xfrm>
            <a:off x="7740720" y="981000"/>
            <a:ext cx="60624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4:24:32Z</dcterms:created>
  <dc:creator>CpKP</dc:creator>
  <dc:description/>
  <dc:language>en-US</dc:language>
  <cp:lastModifiedBy>Návrat Bohumil</cp:lastModifiedBy>
  <dcterms:modified xsi:type="dcterms:W3CDTF">2018-02-20T12:57:29Z</dcterms:modified>
  <cp:revision>16</cp:revision>
  <dc:subject/>
  <dc:title>Jednací řád</dc:title>
</cp:coreProperties>
</file>