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0E7-2BBC-49B2-AEFB-9DF29CD9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00E-3E62-4957-9C7E-67A9157F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ED4B1-846E-4C5D-ABDB-509A2FF5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4975A-68A1-437D-86F1-8A56656C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74279-D221-4241-BBDA-6B36C447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2CBD7-8835-4D06-AEC0-0CC64405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438A5-FFDB-4FFA-9A8C-32338DC0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39EDB-27B3-45EA-9144-7EFDE2C0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54D8A-65BF-4C60-8035-F8D8B437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E2E59-9CAF-4EFA-BA47-1926A101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0A053-661E-4D5A-B8BE-A76A5046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99A1B-C1F3-4116-8241-F7125AA4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CB2-2F1E-4779-9C59-D15C1AEC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47493-B15D-4C82-8F0B-1EFAA4E3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E8C6D-7818-457E-93D0-95EDB45C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4EEE5-31E0-484A-8F70-BA056981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4C7BD-3FD1-4817-B086-700274B8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1F253-DEFD-4C66-AD13-5052AD4B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C2298-2165-40A6-AAA9-5C7A407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C801C-B5F5-4EE9-913C-25C1B01D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523FC-D1BA-4A0D-B615-5F733C6C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81F60-35B2-412C-8AB7-7857176C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66531-61FE-41DB-975A-2666F9CD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5AD-A527-428C-8897-4596852E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A02CA-91AA-49B7-B13A-A99BF41B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8CAE7-B2C9-46DC-9E65-57C64E30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30457-9C99-469B-8B0F-771354A7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CC35B-AACE-4ADF-9FD3-C4E3FC69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953D2-840E-447F-A88D-886EDAB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412BC-3363-422D-9A17-D7B1825E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05FCF-3981-4FE7-8AA7-CD8467ED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9F51A-9C2B-47B6-8074-F242C697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D97B2-19E3-47E5-8D04-87BCFE6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C7369-5C93-40DF-8A0A-E24F463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EAD1-31F6-4486-9759-5D519ED5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A815F-8B5D-466C-8177-06B2412D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76341-0494-4977-977E-D0EE0BC0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02D91-FCD9-4385-9DD5-3FBF23C4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C6D1C-78D0-4A33-B696-53F2E1DB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BF180-C19D-4815-9878-23AD8674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4F7B7-359E-4035-A14B-349E8BAE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6AF43-A90D-4677-9986-B2A0CC7C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99945-1807-4734-9C48-6DCD70F0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F0DA4-CAFD-4643-825D-48337628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B5F40-89A4-4D16-80CD-25B0673E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29F5-87E0-4709-84C7-BBF7659C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B5B85-7090-4FA8-B318-8182B125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D7A5E-703D-4C06-9ED3-22FF85E8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E542D-C3CD-4601-AA14-AB34186E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CFFDE-188D-4599-9F7E-295C403F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8DB69-4C04-4681-9353-5D4EAF96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E1236-81B1-4CDD-93B3-C7AC8715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2D6FF-303B-4EE1-A11E-114CB654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4BD8C-3E1F-492D-9372-9DBE5168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D7744-800A-4AAD-BD66-ACC51058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ABD96-961D-4BE8-A2DE-0BD65A87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A12B-53A6-4E30-8FF0-041A6918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08E7E-397A-443B-A036-F1BD0734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630DF-90D1-4AF5-9809-E0CF3D78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95FC0-9D53-46AD-917F-340E4226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45502-26C2-4CDA-923B-FB4BEFB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1218B-8A7F-43C7-B33C-FFDE779C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8BBE2-A21F-4A00-B2E3-88334902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CB9A4-BD84-4ED6-B588-336E9375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E352F-F62C-4E90-9A2F-1458E274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D0252-38AA-4F4E-8F70-F45742B6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FB766E-1F2C-41E9-BBA3-31F6330A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F81F-EDDF-4DE6-A383-46BA54A2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B313C-406C-44FE-A04D-9F39914B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5882A-5532-441D-8236-14112958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62D67-4E5B-4C23-9A44-54F0D789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16DEC-50AD-4BAE-AC61-243D7175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EFDAD-CD5E-4841-8720-33A62A63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265DD-DF94-4BEE-8BF8-076B920E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59E62-8A0F-4959-8B20-A2ACE80F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5AAF2-A7A3-4D3F-ADE6-799B3E64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7DCC9-9F50-4720-8B0D-F8D00B69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6C163-D4DC-4688-8F26-A681B958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F532-87E6-4940-9527-3FB652AB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E8D67-E7D1-49EB-84F8-57332ECB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639FA-9178-4F89-BBD3-39EA588A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53F1BE-46E4-481A-9A0B-D112838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4F648-D391-49C9-9DF3-A9969C4D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88011-DDA8-43B5-B15C-86036A7D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A7745E-9096-40A9-BEE5-CC7C6C77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5867F-7BCD-440C-B5D6-02EF01E6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CA7FF-C37E-4916-A5EF-B5607730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5E647-9A9B-414E-9E22-79747F95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D7E1B-0D42-4F5D-83AF-710B128D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A9EF-B33E-4CCB-A743-EC57023B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A4C45-F25B-456C-8B06-458D34DD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03A83-3E32-41F9-8FA1-C753D279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A2130-21C5-44BF-B3F5-A02FBF86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10752-4D19-4E09-B0EC-B9CB1C4A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EE852-CD18-459F-AF26-75A74F8E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326EC-E2BC-47D3-81A8-06F40575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12C39-7F9E-4354-B339-3BC8DF89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FED74-07C4-4E93-B69F-BC07E6E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F3CAEC-86BE-4E82-B9DF-C49259CD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3427C8-91B5-439B-9846-14B19A3F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ABD8-DCFA-41A8-9A58-68237E5B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D1BC17-A954-4B43-8552-924FA9DA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BB7F5-5E7E-41C3-B4E2-9947C214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2AF49-2D6F-4178-9115-70F8C370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2EBFE-E218-42A1-9862-4D8A76E9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8B781-1F1C-4258-BD78-414490E9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40DEA-88EB-49F6-99EA-FAC329DC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ED887-7FF8-4FEE-8541-2E617DF9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D2819-B005-4A83-8E1C-9E918BBC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A80AF-474D-41BD-BC9A-2E9E0608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E5641-588A-4163-BD0C-55ADB6AF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E79-38B1-40B6-9DC5-BC131B7A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F836-A2F9-486D-A51A-9F05A56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420B6-742F-4454-9822-BF241076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427B16-41CB-478C-9FC6-B6B18DB6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88DBC-D04B-479D-BDA9-A0AB3CB1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74C6E-8D71-48AF-92D0-6FF88015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B7B92D-7638-4E07-A524-736F6BB1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D5D63-EECA-4AD6-9CF2-ECD01D5D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F5869-057B-4F87-9C8B-EB65308B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1C1D7E-0A9D-4819-A987-9180925A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944B8-A30B-4B3F-B545-2C669312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306DE-A96F-4034-A4BB-4BB6517B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0C08-3CD8-43FC-93A7-BB1E99D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A25CE-DEEE-4F53-ADC7-CAFE59EC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9D1AE-A1B0-409C-AB6F-297895DB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4D8EA-F1B7-4A95-891D-C0FC7C9D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C4154-72F1-4426-8520-C57A4910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7F7CC-5A96-42CD-BEFA-94128C5F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01FCA-92EE-4BBA-966D-81D7285C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8F7C34-EC7C-4B31-A8C5-E2F33E90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FF90-92ED-429F-B997-219CC727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C968-0415-495E-B2E1-FD7419E7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0DAB-4CA7-4F06-B8F6-12ADBB81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1CF1-8127-49BC-B0AA-124AF3C0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64BE-1EF6-4B33-BE98-FDA451A5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9053-B578-4A5A-86FB-3CCF872C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4970D-9885-4E12-899A-A976A988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1CBB-D694-452E-A578-787F202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106-DEAC-4098-9010-3C5473F2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A8A9-7373-4827-BB2E-A9143F3A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1C59E-B343-45DA-9186-52F2141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C465-F34F-48DB-B843-92258D9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9627-F1D9-408E-8C9E-52A94EA9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814A-A833-470D-88E3-8DF03D1D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D7AC-F6AC-4B23-BB71-2DA77D4B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42FB-B604-4607-B764-96F14567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1FDD0-BAA1-4A9B-8D2C-64A1FD47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7DE09-C0F8-485C-BED8-A3F783F9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8788-972F-430A-9CF0-7B46C767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8E9-34A5-46F5-9BC1-04DD70D6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3F984-F8F1-4FD8-9E4C-C780CE16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19EA-F095-49ED-AED0-9D6F9473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CB9FE-245D-46EB-B02E-CEE1FEDC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88C2-9C9B-4814-A529-5191C389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7FBC-6057-40F8-BACB-AF8E6D4F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B0DE-2839-45FD-8A34-5AEFB9D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A5F2-1E37-496F-B046-769C7C71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737DB-A23C-4A8D-921B-4EC12971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F681-C134-4809-B1BD-8188F3A3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2B43-0D29-41B8-B1AD-582F65BB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273-64C1-4F9F-AEB1-786DA36E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CBFB7-4C3D-46B6-8B51-C2AABEFB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0D12A-38C2-4D33-AB64-058C4CF3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B6294-3656-48B1-8C8F-53784CA1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5F931-DE1B-465E-AAEB-3B0B50CD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E7C00-CC88-44CF-AFB8-513EAB2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3A57-35B4-4B1E-AB36-A6F1EC43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65BB2-1896-4109-B824-F0257BE5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8A60E-8C88-4FAF-8226-69149755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15CF1-55D4-4548-B5C6-D98F3F96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FC7E7-B042-430A-BE98-8A815DEE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E8D-7F13-4408-8B4C-9758A386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4D7EE-2CAE-404D-8EAB-F3A29753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ACD1F-E509-46AA-8452-EE36E349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A4868-F20C-476C-9BFD-9D933804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1FA4F-0220-4950-A161-6B79A950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1F52D-1822-46E6-9FC8-5BB374CF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6B88F-6680-4E6F-A91C-73D55071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90E18-5281-4D22-B3C8-32711E0B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A2BEB-4851-4746-9E9B-6AB801F4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51CE8-8A19-41F3-8C61-98D93ABE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E4B70-83E3-4CF2-8071-BFCB0B69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D75-EA13-45D4-B60D-BC695785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BF7E6-361D-4A58-80B9-190B6003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35ECE-D14E-4C45-94F4-63EBF85D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C1208-CE20-4C8C-8F4C-2B58E9AA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B4C14-6E27-44B1-A7D0-DB6E964E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DED49-CA77-42D5-A30B-8823666A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05331-3380-4E54-A442-702E4190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05A04-ED45-4225-9291-F6C6704D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94D52-6F92-4C91-8DC9-EC746D6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7AE51-1906-449E-8EBC-1DEFAE44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EE2D3-F094-482F-AC22-15776E3E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12E-BADE-4EE5-AB15-C09B6725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8F153-798C-4644-A042-36038B9C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39D81-06F0-4034-8C46-01E428C4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D285A-F462-4A22-AED5-EC739C5F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CD0A2-43FB-46FC-A219-FA636BA5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EC2A1-1D28-4780-977F-40B46C4E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9D73B-6800-4C97-9B32-5A9ACCFC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2C215-CF58-465B-B1FA-8F456AEC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82C44-CB37-450D-9A62-F46BAE13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56B86-0FB2-4E33-AD87-32DA2B13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882C8-7CDE-4F66-8AA1-FA8C3378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DF6-8507-4311-B8EF-71EB81E1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63B93-3925-4101-8F72-A6D4D01F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BCCAA-635C-49AA-BE24-283D315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BD8B4-A146-4F00-9C60-963950E8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7F073-3DAA-4121-9E27-201B5676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C6B60-6946-477F-8971-CB05801C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9DCAE-F1B0-4C09-B07F-50B08220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9724A-844D-41E2-8B3B-87D8E46E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B6A1D-4F7B-4DC4-861E-E10FAE02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5BC1F-B5E6-46FF-B65B-70DAD397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CF531-59E6-44A3-85B3-0EDF4AF6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EA0AC-3A8B-489D-931B-A3D4CFDDA07C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8A064-98CC-48B0-A957-7DB582FC2BBE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0644A-1DD8-4218-9836-8A9148922E60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7F8E6-A688-408E-9F72-356359996D6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26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9FFC5-0239-49DA-B8BB-671115C190C0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480" y="45720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B561C-7594-4AA2-89EA-7BA01B265689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BF501-8112-4A35-B5F9-A379BC6D603B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771A0-5403-4579-A032-839F52ACA557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9C610-5BAE-4E95-9DB7-B2F76BD0C4DB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588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640" y="5462640"/>
              <a:ext cx="143316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B969C-A6EC-481A-88A3-51FB111F4085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7879E-C128-43AD-B8E4-ECBF5D4B67FE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6FC12-2B13-4F5D-B337-A4FA5C1E0DA4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480" y="272880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E6635-8B17-4F7F-81D3-26AE56532E7F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F4FAD-CD7B-4DE4-8FDF-C98CC5BCD4EB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E4535-67C5-40C7-8A6E-9727EDD58238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255FB-FC89-47EE-AE0D-C353E8F50051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8E230-4DE7-42A3-882A-E0789EBD2093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840" cy="136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480" y="609480"/>
              <a:ext cx="1433160" cy="136800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C1D2C-C9E0-48DE-B71C-393C558C1081}" type="slidenum"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790c"/>
            </a:gs>
            <a:gs pos="100000">
              <a:srgbClr val="a628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-360" y="2460600"/>
            <a:ext cx="622764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ff"/>
                </a:solidFill>
                <a:latin typeface="Trebuchet MS"/>
              </a:rPr>
              <a:t>Základní Listina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1290600" y="3733920"/>
            <a:ext cx="44229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9" name="Obrázek 8" descr=""/>
          <p:cNvPicPr/>
          <p:nvPr/>
        </p:nvPicPr>
        <p:blipFill>
          <a:blip r:embed="rId1"/>
          <a:stretch/>
        </p:blipFill>
        <p:spPr>
          <a:xfrm>
            <a:off x="7956720" y="2957400"/>
            <a:ext cx="1083960" cy="1086120"/>
          </a:xfrm>
          <a:prstGeom prst="rect">
            <a:avLst/>
          </a:prstGeom>
          <a:ln w="0">
            <a:noFill/>
          </a:ln>
        </p:spPr>
      </p:pic>
      <p:pic>
        <p:nvPicPr>
          <p:cNvPr id="840" name="Obrázek 5" descr="W:\PUBLICITA\VIZUÁLNÍ_IDENTITA\na web\OPZ_CB.jpg"/>
          <p:cNvPicPr/>
          <p:nvPr/>
        </p:nvPicPr>
        <p:blipFill>
          <a:blip r:embed="rId2"/>
          <a:stretch/>
        </p:blipFill>
        <p:spPr>
          <a:xfrm>
            <a:off x="3235320" y="189000"/>
            <a:ext cx="2627280" cy="542880"/>
          </a:xfrm>
          <a:prstGeom prst="rect">
            <a:avLst/>
          </a:prstGeom>
          <a:ln w="0">
            <a:noFill/>
          </a:ln>
        </p:spPr>
      </p:pic>
      <p:pic>
        <p:nvPicPr>
          <p:cNvPr id="841" name="Obrázek 7" descr="Obsah obrázku klipart&#10;&#10;Popis vygenerován s vysokou mírou spolehlivosti"/>
          <p:cNvPicPr/>
          <p:nvPr/>
        </p:nvPicPr>
        <p:blipFill>
          <a:blip r:embed="rId3"/>
          <a:stretch/>
        </p:blipFill>
        <p:spPr>
          <a:xfrm>
            <a:off x="6929280" y="2957400"/>
            <a:ext cx="905040" cy="10861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7640" y="752040"/>
            <a:ext cx="7319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Základní listina KPSS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20280" y="2420640"/>
            <a:ext cx="85028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rebuchet MS"/>
              </a:rPr>
              <a:t>Slouží k vymezení pravidel, kterými se proces KPSS řídí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rebuchet MS"/>
              </a:rPr>
              <a:t>Je to veřejný dokument, ke kterému se závazně hlásí všichni účastníci KPS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78920" y="752040"/>
            <a:ext cx="7248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rebuchet MS"/>
              </a:rPr>
              <a:t>Vymezení KPSS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13840" y="2349360"/>
            <a:ext cx="89298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Co je to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Oblast KP  - sociální služb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Působnost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Účastníci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Trebuchet MS"/>
              </a:rPr>
              <a:t>Cíle KPS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TextovéPole 2"/>
          <p:cNvSpPr/>
          <p:nvPr/>
        </p:nvSpPr>
        <p:spPr>
          <a:xfrm>
            <a:off x="395280" y="1844640"/>
            <a:ext cx="856944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Vytvořit jednotný kvalitní systém sociálních služeb, který bude dostupný, bude odpovídat potřebám občanů a bude pružně reagovat na změny jejich potřeb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Umožnit občanům podílet se na rozvoji sociálních služeb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Zajistit efektivní ekonomické plánování sociálních služeb a vytvořit rovné podmínky pro všechny poskytovatele těchto služeb s cílem co nejlépe využívat dostupné zdroje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rebuchet MS"/>
              </a:rPr>
              <a:t>Vytvářet a předkládat ke schválení Plán rozvoje sociálních služeb v ORP Šternberk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rebuchet MS"/>
              </a:rPr>
              <a:t>Principy KPS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TextovéPole 2"/>
          <p:cNvSpPr/>
          <p:nvPr/>
        </p:nvSpPr>
        <p:spPr>
          <a:xfrm>
            <a:off x="250920" y="2205000"/>
            <a:ext cx="864216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Posílení principů otevřené občanské společnost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Bez dohody není KPS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Vše je veřejné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Bez uživatelů není KPS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KPSS je živý a cyklický proc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KPSS je proces orientovaný na kvalitu a efektivitu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Organizační struktura KPS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TextovéPole 2"/>
          <p:cNvSpPr/>
          <p:nvPr/>
        </p:nvSpPr>
        <p:spPr>
          <a:xfrm>
            <a:off x="250920" y="2133720"/>
            <a:ext cx="871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Řídící orgán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rebuchet MS"/>
              </a:rPr>
              <a:t>Řídící skupin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- úzce spolupracuje s rovinou odbornou, zastoupenou Pracovními skupinami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Nejvyššími orgány procesů KPSS jsou Veřejná setkání účastníků KPSS, Rada města Šternberk a Zastupitelstvo města Šternberk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Organizační struktur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TextovéPole 2"/>
          <p:cNvSpPr/>
          <p:nvPr/>
        </p:nvSpPr>
        <p:spPr>
          <a:xfrm>
            <a:off x="179280" y="2205000"/>
            <a:ext cx="89647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Odpovědné osoby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rebuchet MS"/>
              </a:rPr>
              <a:t>Centrum pro komunitní práci východní Morava</a:t>
            </a: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 (zpracovatel komunitního plánování), odpovědná osoba, která projekt řídí a je pověřená jednat za zpracovatele: Mgr. Gabriela Fellingerová, ředitelka místního zastoupení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rebuchet MS"/>
              </a:rPr>
              <a:t>Město Šternberk </a:t>
            </a: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(partner projektu), odpovědná osoba: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Trebuchet MS"/>
              </a:rPr>
              <a:t>Ing. Jitka Zajacová, vedoucí Odboru sociálních věcí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0" y="752040"/>
            <a:ext cx="75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rebuchet MS"/>
              </a:rPr>
              <a:t>Provádění změn a doplňování ZL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TextovéPole 2"/>
          <p:cNvSpPr/>
          <p:nvPr/>
        </p:nvSpPr>
        <p:spPr>
          <a:xfrm>
            <a:off x="108000" y="1916280"/>
            <a:ext cx="9036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Návrh změn, včetně zdůvodnění, může podat kterýkoli účastník KPSS na adresu Města Šternberk, </a:t>
            </a:r>
            <a:r>
              <a:rPr b="0" i="1" lang="cs-CZ" sz="2400" spc="-1" strike="noStrike">
                <a:solidFill>
                  <a:srgbClr val="ffffff"/>
                </a:solidFill>
                <a:latin typeface="Trebuchet MS"/>
              </a:rPr>
              <a:t>Horní náměstí 16, 785 01 Šternberk, nebo na e-mail: marcela.porvaznikova@cpkp.cz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Základní listina může být doplňována i dalšími dokumenty, kterými mohou být jednací řády a metodiky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Změny a doplnění musejí být projednány a schváleny Řídící skupinou procesu KPSS a musejí být zveřejněny v písemné formě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Obrázek 2" descr=""/>
          <p:cNvPicPr/>
          <p:nvPr/>
        </p:nvPicPr>
        <p:blipFill>
          <a:blip r:embed="rId1"/>
          <a:stretch/>
        </p:blipFill>
        <p:spPr>
          <a:xfrm>
            <a:off x="8388360" y="981000"/>
            <a:ext cx="717480" cy="727200"/>
          </a:xfrm>
          <a:prstGeom prst="rect">
            <a:avLst/>
          </a:prstGeom>
          <a:ln w="0">
            <a:noFill/>
          </a:ln>
        </p:spPr>
      </p:pic>
      <p:pic>
        <p:nvPicPr>
          <p:cNvPr id="858" name="Obdélník 3" descr=""/>
          <p:cNvPicPr/>
          <p:nvPr/>
        </p:nvPicPr>
        <p:blipFill>
          <a:blip r:embed="rId2"/>
          <a:stretch/>
        </p:blipFill>
        <p:spPr>
          <a:xfrm>
            <a:off x="652320" y="2792520"/>
            <a:ext cx="8528040" cy="1109520"/>
          </a:xfrm>
          <a:prstGeom prst="rect">
            <a:avLst/>
          </a:prstGeom>
          <a:ln w="0">
            <a:noFill/>
          </a:ln>
        </p:spPr>
      </p:pic>
      <p:pic>
        <p:nvPicPr>
          <p:cNvPr id="859" name="Obrázek 4" descr="W:\PUBLICITA\VIZUÁLNÍ_IDENTITA\na web\OPZ_CB.jpg"/>
          <p:cNvPicPr/>
          <p:nvPr/>
        </p:nvPicPr>
        <p:blipFill>
          <a:blip r:embed="rId3"/>
          <a:stretch/>
        </p:blipFill>
        <p:spPr>
          <a:xfrm>
            <a:off x="3346560" y="106200"/>
            <a:ext cx="2627280" cy="54468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1"/>
          <p:cNvSpPr/>
          <p:nvPr/>
        </p:nvSpPr>
        <p:spPr>
          <a:xfrm>
            <a:off x="774720" y="6095160"/>
            <a:ext cx="778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Projekt: </a:t>
            </a:r>
            <a:r>
              <a:rPr b="1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„Aktualizace procesu komunitního plánování sociálních služeb v ORP Šternberk“,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reg. číslo CZ.03.2.63/0.0/0.0/16_063/0006558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libri"/>
                <a:ea typeface="Calibri"/>
              </a:rPr>
              <a:t>Tento projekt je financován z prostředků ESF prostřednictvím Operačního programu Zaměstnanost a státního rozpočtu ČR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1" name="Obrázek 7" descr="Obsah obrázku klipart&#10;&#10;Popis vygenerován s vysokou mírou spolehlivosti"/>
          <p:cNvPicPr/>
          <p:nvPr/>
        </p:nvPicPr>
        <p:blipFill>
          <a:blip r:embed="rId4"/>
          <a:stretch/>
        </p:blipFill>
        <p:spPr>
          <a:xfrm>
            <a:off x="7740720" y="981000"/>
            <a:ext cx="60624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4:24:32Z</dcterms:created>
  <dc:creator>CpKP</dc:creator>
  <dc:description/>
  <dc:language>en-US</dc:language>
  <cp:lastModifiedBy>Návrat Bohumil</cp:lastModifiedBy>
  <dcterms:modified xsi:type="dcterms:W3CDTF">2018-02-20T12:57:29Z</dcterms:modified>
  <cp:revision>16</cp:revision>
  <dc:subject/>
  <dc:title>Jednací řád</dc:title>
</cp:coreProperties>
</file>